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80ffc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80ffc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80ff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80ff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80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c5265"/>
            </a:gs>
            <a:gs pos="50000">
              <a:srgbClr val="c1ceff"/>
            </a:gs>
            <a:gs pos="100000">
              <a:srgbClr val="4c52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99280" y="792000"/>
            <a:ext cx="7615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c1ceff"/>
                </a:solidFill>
                <a:latin typeface="Times New Roman"/>
                <a:cs typeface="AngsanaUPC"/>
              </a:rPr>
              <a:t>เบื้องบนเป็นอย่างไร</a:t>
            </a:r>
            <a:endParaRPr b="0" lang="en-US" sz="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334800" y="4579920"/>
            <a:ext cx="8874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c1ceff"/>
                </a:solidFill>
                <a:latin typeface="Times New Roman"/>
                <a:cs typeface="AngsanaUPC"/>
              </a:rPr>
              <a:t>เบื้องล่างก็เป็นอย่างนั้น</a:t>
            </a:r>
            <a:endParaRPr b="0" lang="en-US" sz="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05640" y="6062400"/>
            <a:ext cx="3425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เฮอเมส ตรี มาจิสโตส</a:t>
            </a:r>
            <a:endParaRPr b="0" lang="en-US" sz="36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6320" y="1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8901f3"/>
                </a:solidFill>
                <a:latin typeface="Angsana New"/>
                <a:cs typeface="Angsana New"/>
              </a:rPr>
              <a:t>จุดเริ่มต้นจักรราศี มี </a:t>
            </a:r>
            <a:r>
              <a:rPr b="1" lang="en-US" sz="6000" spc="-1" strike="noStrike">
                <a:solidFill>
                  <a:srgbClr val="8901f3"/>
                </a:solidFill>
                <a:latin typeface="Angsana New"/>
                <a:ea typeface="Angsana New"/>
              </a:rPr>
              <a:t>2 </a:t>
            </a:r>
            <a:r>
              <a:rPr b="1" lang="hi-IN" sz="6000" spc="-1" strike="noStrike">
                <a:solidFill>
                  <a:srgbClr val="8901f3"/>
                </a:solidFill>
                <a:latin typeface="Angsana New"/>
                <a:cs typeface="Angsana New"/>
              </a:rPr>
              <a:t>จุด </a:t>
            </a:r>
            <a:r>
              <a:rPr b="1" lang="en-US" sz="6000" spc="-1" strike="noStrike">
                <a:solidFill>
                  <a:srgbClr val="8901f3"/>
                </a:solidFill>
                <a:latin typeface="Angsana New"/>
                <a:ea typeface="Angsana New"/>
              </a:rPr>
              <a:t>(2 </a:t>
            </a:r>
            <a:r>
              <a:rPr b="1" lang="hi-IN" sz="6000" spc="-1" strike="noStrike">
                <a:solidFill>
                  <a:srgbClr val="8901f3"/>
                </a:solidFill>
                <a:latin typeface="Angsana New"/>
                <a:cs typeface="Angsana New"/>
              </a:rPr>
              <a:t>ระบบ</a:t>
            </a:r>
            <a:r>
              <a:rPr b="1" lang="en-US" sz="6000" spc="-1" strike="noStrike">
                <a:solidFill>
                  <a:srgbClr val="8901f3"/>
                </a:solidFill>
                <a:latin typeface="Angsana New"/>
                <a:ea typeface="Angsana New"/>
              </a:rPr>
              <a:t>)</a:t>
            </a:r>
            <a:endParaRPr b="0" lang="en-US" sz="60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7960" y="1306080"/>
            <a:ext cx="7473960" cy="501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ts val="5499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จุดวิษุวัต  จุดเริ่มต้นจักรราศีของระบบ สายนะ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เคลื่อนที่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5499"/>
              </a:lnSpc>
              <a:spcBef>
                <a:spcPts val="1599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จุดในดาวฤกษ์รูปแกะซึ่งทำมุมประมาณ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180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องศากับดาวฤกษ์สปิคา  เป็นจุดเริ่มต้น จักรราศีของระบบนิรายนะ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คงที่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ts val="5499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279f"/>
                </a:solidFill>
                <a:latin typeface="Angsana New"/>
              </a:rPr>
              <a:t>ทั้ง </a:t>
            </a:r>
            <a:r>
              <a:rPr b="0" lang="th-TH" sz="4400" spc="-1" strike="noStrike">
                <a:solidFill>
                  <a:srgbClr val="00279f"/>
                </a:solidFill>
                <a:latin typeface="Angsana New"/>
              </a:rPr>
              <a:t>2 </a:t>
            </a:r>
            <a:r>
              <a:rPr b="0" lang="th-TH" sz="4400" spc="-1" strike="noStrike">
                <a:solidFill>
                  <a:srgbClr val="00279f"/>
                </a:solidFill>
                <a:latin typeface="Angsana New"/>
              </a:rPr>
              <a:t>จุด</a:t>
            </a:r>
            <a:r>
              <a:rPr b="0" lang="th-TH" sz="4400" spc="-1" strike="noStrike">
                <a:solidFill>
                  <a:srgbClr val="00279f"/>
                </a:solidFill>
                <a:latin typeface="Times New Roman"/>
                <a:ea typeface="AngsanaUPC"/>
              </a:rPr>
              <a:t> ต่างก็อยู่บนระวิมรรคและห่างกันตาม ค่าอยนาง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4320" y="5248440"/>
            <a:ext cx="876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92520" y="1246320"/>
            <a:ext cx="0" cy="38592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3605040" y="1509840"/>
            <a:ext cx="1887840" cy="330192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219400"/>
            <a:ext cx="3392640" cy="19335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2612880" y="3186000"/>
            <a:ext cx="3899160" cy="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76400" y="2206440"/>
            <a:ext cx="3391200" cy="19587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584520" y="1476360"/>
            <a:ext cx="1954440" cy="337824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3214800" y="1827360"/>
            <a:ext cx="2716200" cy="2693880"/>
          </a:xfrm>
          <a:custGeom>
            <a:avLst/>
            <a:gdLst/>
            <a:ahLst/>
            <a:rect l="l" t="t" r="r" b="b"/>
            <a:pathLst>
              <a:path w="1711" h="1697">
                <a:moveTo>
                  <a:pt x="1710" y="846"/>
                </a:moveTo>
                <a:lnTo>
                  <a:pt x="1707" y="790"/>
                </a:lnTo>
                <a:lnTo>
                  <a:pt x="1700" y="737"/>
                </a:lnTo>
                <a:lnTo>
                  <a:pt x="1690" y="678"/>
                </a:lnTo>
                <a:lnTo>
                  <a:pt x="1677" y="625"/>
                </a:lnTo>
                <a:lnTo>
                  <a:pt x="1660" y="569"/>
                </a:lnTo>
                <a:lnTo>
                  <a:pt x="1643" y="516"/>
                </a:lnTo>
                <a:lnTo>
                  <a:pt x="1617" y="466"/>
                </a:lnTo>
                <a:lnTo>
                  <a:pt x="1590" y="417"/>
                </a:lnTo>
                <a:lnTo>
                  <a:pt x="1560" y="367"/>
                </a:lnTo>
                <a:lnTo>
                  <a:pt x="1527" y="324"/>
                </a:lnTo>
                <a:lnTo>
                  <a:pt x="1487" y="278"/>
                </a:lnTo>
                <a:lnTo>
                  <a:pt x="1451" y="238"/>
                </a:lnTo>
                <a:lnTo>
                  <a:pt x="1404" y="198"/>
                </a:lnTo>
                <a:lnTo>
                  <a:pt x="1361" y="165"/>
                </a:lnTo>
                <a:lnTo>
                  <a:pt x="1314" y="132"/>
                </a:lnTo>
                <a:lnTo>
                  <a:pt x="1268" y="106"/>
                </a:lnTo>
                <a:lnTo>
                  <a:pt x="1214" y="79"/>
                </a:lnTo>
                <a:lnTo>
                  <a:pt x="1161" y="56"/>
                </a:lnTo>
                <a:lnTo>
                  <a:pt x="1108" y="40"/>
                </a:lnTo>
                <a:lnTo>
                  <a:pt x="1051" y="23"/>
                </a:lnTo>
                <a:lnTo>
                  <a:pt x="998" y="13"/>
                </a:lnTo>
                <a:lnTo>
                  <a:pt x="938" y="3"/>
                </a:lnTo>
                <a:lnTo>
                  <a:pt x="882" y="0"/>
                </a:lnTo>
                <a:lnTo>
                  <a:pt x="825" y="0"/>
                </a:lnTo>
                <a:lnTo>
                  <a:pt x="769" y="3"/>
                </a:lnTo>
                <a:lnTo>
                  <a:pt x="712" y="13"/>
                </a:lnTo>
                <a:lnTo>
                  <a:pt x="655" y="23"/>
                </a:lnTo>
                <a:lnTo>
                  <a:pt x="602" y="40"/>
                </a:lnTo>
                <a:lnTo>
                  <a:pt x="546" y="56"/>
                </a:lnTo>
                <a:lnTo>
                  <a:pt x="496" y="79"/>
                </a:lnTo>
                <a:lnTo>
                  <a:pt x="442" y="106"/>
                </a:lnTo>
                <a:lnTo>
                  <a:pt x="393" y="132"/>
                </a:lnTo>
                <a:lnTo>
                  <a:pt x="349" y="165"/>
                </a:lnTo>
                <a:lnTo>
                  <a:pt x="303" y="198"/>
                </a:lnTo>
                <a:lnTo>
                  <a:pt x="259" y="238"/>
                </a:lnTo>
                <a:lnTo>
                  <a:pt x="220" y="278"/>
                </a:lnTo>
                <a:lnTo>
                  <a:pt x="183" y="324"/>
                </a:lnTo>
                <a:lnTo>
                  <a:pt x="150" y="367"/>
                </a:lnTo>
                <a:lnTo>
                  <a:pt x="120" y="417"/>
                </a:lnTo>
                <a:lnTo>
                  <a:pt x="93" y="466"/>
                </a:lnTo>
                <a:lnTo>
                  <a:pt x="67" y="516"/>
                </a:lnTo>
                <a:lnTo>
                  <a:pt x="47" y="569"/>
                </a:lnTo>
                <a:lnTo>
                  <a:pt x="30" y="625"/>
                </a:lnTo>
                <a:lnTo>
                  <a:pt x="17" y="678"/>
                </a:lnTo>
                <a:lnTo>
                  <a:pt x="7" y="737"/>
                </a:lnTo>
                <a:lnTo>
                  <a:pt x="3" y="790"/>
                </a:lnTo>
                <a:lnTo>
                  <a:pt x="0" y="846"/>
                </a:lnTo>
                <a:lnTo>
                  <a:pt x="3" y="906"/>
                </a:lnTo>
                <a:lnTo>
                  <a:pt x="7" y="962"/>
                </a:lnTo>
                <a:lnTo>
                  <a:pt x="17" y="1018"/>
                </a:lnTo>
                <a:lnTo>
                  <a:pt x="30" y="1074"/>
                </a:lnTo>
                <a:lnTo>
                  <a:pt x="47" y="1127"/>
                </a:lnTo>
                <a:lnTo>
                  <a:pt x="67" y="1180"/>
                </a:lnTo>
                <a:lnTo>
                  <a:pt x="93" y="1230"/>
                </a:lnTo>
                <a:lnTo>
                  <a:pt x="120" y="1283"/>
                </a:lnTo>
                <a:lnTo>
                  <a:pt x="150" y="1329"/>
                </a:lnTo>
                <a:lnTo>
                  <a:pt x="183" y="1375"/>
                </a:lnTo>
                <a:lnTo>
                  <a:pt x="220" y="1418"/>
                </a:lnTo>
                <a:lnTo>
                  <a:pt x="259" y="1458"/>
                </a:lnTo>
                <a:lnTo>
                  <a:pt x="303" y="1494"/>
                </a:lnTo>
                <a:lnTo>
                  <a:pt x="349" y="1531"/>
                </a:lnTo>
                <a:lnTo>
                  <a:pt x="393" y="1564"/>
                </a:lnTo>
                <a:lnTo>
                  <a:pt x="442" y="1594"/>
                </a:lnTo>
                <a:lnTo>
                  <a:pt x="496" y="1620"/>
                </a:lnTo>
                <a:lnTo>
                  <a:pt x="546" y="1640"/>
                </a:lnTo>
                <a:lnTo>
                  <a:pt x="602" y="1660"/>
                </a:lnTo>
                <a:lnTo>
                  <a:pt x="655" y="1673"/>
                </a:lnTo>
                <a:lnTo>
                  <a:pt x="712" y="1686"/>
                </a:lnTo>
                <a:lnTo>
                  <a:pt x="769" y="1693"/>
                </a:lnTo>
                <a:lnTo>
                  <a:pt x="825" y="1696"/>
                </a:lnTo>
                <a:lnTo>
                  <a:pt x="882" y="1696"/>
                </a:lnTo>
                <a:lnTo>
                  <a:pt x="938" y="1693"/>
                </a:lnTo>
                <a:lnTo>
                  <a:pt x="998" y="1686"/>
                </a:lnTo>
                <a:lnTo>
                  <a:pt x="1051" y="1673"/>
                </a:lnTo>
                <a:lnTo>
                  <a:pt x="1108" y="1660"/>
                </a:lnTo>
                <a:lnTo>
                  <a:pt x="1161" y="1640"/>
                </a:lnTo>
                <a:lnTo>
                  <a:pt x="1214" y="1620"/>
                </a:lnTo>
                <a:lnTo>
                  <a:pt x="1268" y="1594"/>
                </a:lnTo>
                <a:lnTo>
                  <a:pt x="1314" y="1564"/>
                </a:lnTo>
                <a:lnTo>
                  <a:pt x="1361" y="1531"/>
                </a:lnTo>
                <a:lnTo>
                  <a:pt x="1404" y="1494"/>
                </a:lnTo>
                <a:lnTo>
                  <a:pt x="1451" y="1458"/>
                </a:lnTo>
                <a:lnTo>
                  <a:pt x="1487" y="1418"/>
                </a:lnTo>
                <a:lnTo>
                  <a:pt x="1527" y="1375"/>
                </a:lnTo>
                <a:lnTo>
                  <a:pt x="1560" y="1329"/>
                </a:lnTo>
                <a:lnTo>
                  <a:pt x="1590" y="1283"/>
                </a:lnTo>
                <a:lnTo>
                  <a:pt x="1617" y="1230"/>
                </a:lnTo>
                <a:lnTo>
                  <a:pt x="1643" y="1180"/>
                </a:lnTo>
                <a:lnTo>
                  <a:pt x="1660" y="1127"/>
                </a:lnTo>
                <a:lnTo>
                  <a:pt x="1677" y="1074"/>
                </a:lnTo>
                <a:lnTo>
                  <a:pt x="1690" y="1018"/>
                </a:lnTo>
                <a:lnTo>
                  <a:pt x="1700" y="962"/>
                </a:lnTo>
                <a:lnTo>
                  <a:pt x="1707" y="906"/>
                </a:lnTo>
                <a:lnTo>
                  <a:pt x="1710" y="846"/>
                </a:lnTo>
              </a:path>
            </a:pathLst>
          </a:custGeom>
          <a:solidFill>
            <a:srgbClr val="80ffc1"/>
          </a:solidFill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20800" y="5838840"/>
            <a:ext cx="6127920" cy="766800"/>
            <a:chOff x="1720800" y="5838840"/>
            <a:chExt cx="6127920" cy="766800"/>
          </a:xfrm>
        </p:grpSpPr>
        <p:sp>
          <p:nvSpPr>
            <p:cNvPr id="204" name=""/>
            <p:cNvSpPr/>
            <p:nvPr/>
          </p:nvSpPr>
          <p:spPr>
            <a:xfrm>
              <a:off x="1720800" y="5908680"/>
              <a:ext cx="6127920" cy="696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114ffb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560" y="5838840"/>
              <a:ext cx="5845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013120" y="642960"/>
            <a:ext cx="5041800" cy="5027760"/>
          </a:xfrm>
          <a:custGeom>
            <a:avLst/>
            <a:gdLst/>
            <a:ahLst/>
            <a:rect l="l" t="t" r="r" b="b"/>
            <a:pathLst>
              <a:path w="3176" h="3167">
                <a:moveTo>
                  <a:pt x="3175" y="1583"/>
                </a:moveTo>
                <a:lnTo>
                  <a:pt x="3174" y="1547"/>
                </a:lnTo>
                <a:lnTo>
                  <a:pt x="3174" y="1510"/>
                </a:lnTo>
                <a:lnTo>
                  <a:pt x="3171" y="1473"/>
                </a:lnTo>
                <a:lnTo>
                  <a:pt x="3168" y="1437"/>
                </a:lnTo>
                <a:lnTo>
                  <a:pt x="3165" y="1401"/>
                </a:lnTo>
                <a:lnTo>
                  <a:pt x="3159" y="1365"/>
                </a:lnTo>
                <a:lnTo>
                  <a:pt x="3154" y="1329"/>
                </a:lnTo>
                <a:lnTo>
                  <a:pt x="3148" y="1292"/>
                </a:lnTo>
                <a:lnTo>
                  <a:pt x="3141" y="1256"/>
                </a:lnTo>
                <a:lnTo>
                  <a:pt x="3133" y="1221"/>
                </a:lnTo>
                <a:lnTo>
                  <a:pt x="3124" y="1185"/>
                </a:lnTo>
                <a:lnTo>
                  <a:pt x="3114" y="1150"/>
                </a:lnTo>
                <a:lnTo>
                  <a:pt x="3104" y="1115"/>
                </a:lnTo>
                <a:lnTo>
                  <a:pt x="3093" y="1080"/>
                </a:lnTo>
                <a:lnTo>
                  <a:pt x="3081" y="1045"/>
                </a:lnTo>
                <a:lnTo>
                  <a:pt x="3068" y="1011"/>
                </a:lnTo>
                <a:lnTo>
                  <a:pt x="3054" y="977"/>
                </a:lnTo>
                <a:lnTo>
                  <a:pt x="3040" y="943"/>
                </a:lnTo>
                <a:lnTo>
                  <a:pt x="3025" y="910"/>
                </a:lnTo>
                <a:lnTo>
                  <a:pt x="3009" y="878"/>
                </a:lnTo>
                <a:lnTo>
                  <a:pt x="2992" y="845"/>
                </a:lnTo>
                <a:lnTo>
                  <a:pt x="2975" y="813"/>
                </a:lnTo>
                <a:lnTo>
                  <a:pt x="2956" y="781"/>
                </a:lnTo>
                <a:lnTo>
                  <a:pt x="2938" y="750"/>
                </a:lnTo>
                <a:lnTo>
                  <a:pt x="2918" y="719"/>
                </a:lnTo>
                <a:lnTo>
                  <a:pt x="2897" y="689"/>
                </a:lnTo>
                <a:lnTo>
                  <a:pt x="2876" y="659"/>
                </a:lnTo>
                <a:lnTo>
                  <a:pt x="2854" y="629"/>
                </a:lnTo>
                <a:lnTo>
                  <a:pt x="2832" y="600"/>
                </a:lnTo>
                <a:lnTo>
                  <a:pt x="2809" y="572"/>
                </a:lnTo>
                <a:lnTo>
                  <a:pt x="2785" y="544"/>
                </a:lnTo>
                <a:lnTo>
                  <a:pt x="2761" y="516"/>
                </a:lnTo>
                <a:lnTo>
                  <a:pt x="2736" y="490"/>
                </a:lnTo>
                <a:lnTo>
                  <a:pt x="2710" y="464"/>
                </a:lnTo>
                <a:lnTo>
                  <a:pt x="2684" y="438"/>
                </a:lnTo>
                <a:lnTo>
                  <a:pt x="2657" y="413"/>
                </a:lnTo>
                <a:lnTo>
                  <a:pt x="2630" y="389"/>
                </a:lnTo>
                <a:lnTo>
                  <a:pt x="2602" y="365"/>
                </a:lnTo>
                <a:lnTo>
                  <a:pt x="2573" y="342"/>
                </a:lnTo>
                <a:lnTo>
                  <a:pt x="2544" y="320"/>
                </a:lnTo>
                <a:lnTo>
                  <a:pt x="2515" y="298"/>
                </a:lnTo>
                <a:lnTo>
                  <a:pt x="2484" y="277"/>
                </a:lnTo>
                <a:lnTo>
                  <a:pt x="2454" y="257"/>
                </a:lnTo>
                <a:lnTo>
                  <a:pt x="2423" y="237"/>
                </a:lnTo>
                <a:lnTo>
                  <a:pt x="2392" y="218"/>
                </a:lnTo>
                <a:lnTo>
                  <a:pt x="2360" y="200"/>
                </a:lnTo>
                <a:lnTo>
                  <a:pt x="2328" y="183"/>
                </a:lnTo>
                <a:lnTo>
                  <a:pt x="2295" y="166"/>
                </a:lnTo>
                <a:lnTo>
                  <a:pt x="2262" y="150"/>
                </a:lnTo>
                <a:lnTo>
                  <a:pt x="2229" y="135"/>
                </a:lnTo>
                <a:lnTo>
                  <a:pt x="2195" y="121"/>
                </a:lnTo>
                <a:lnTo>
                  <a:pt x="2161" y="107"/>
                </a:lnTo>
                <a:lnTo>
                  <a:pt x="2127" y="94"/>
                </a:lnTo>
                <a:lnTo>
                  <a:pt x="2092" y="82"/>
                </a:lnTo>
                <a:lnTo>
                  <a:pt x="2057" y="71"/>
                </a:lnTo>
                <a:lnTo>
                  <a:pt x="2022" y="60"/>
                </a:lnTo>
                <a:lnTo>
                  <a:pt x="1987" y="51"/>
                </a:lnTo>
                <a:lnTo>
                  <a:pt x="1951" y="42"/>
                </a:lnTo>
                <a:lnTo>
                  <a:pt x="1915" y="34"/>
                </a:lnTo>
                <a:lnTo>
                  <a:pt x="1880" y="27"/>
                </a:lnTo>
                <a:lnTo>
                  <a:pt x="1843" y="21"/>
                </a:lnTo>
                <a:lnTo>
                  <a:pt x="1806" y="15"/>
                </a:lnTo>
                <a:lnTo>
                  <a:pt x="1771" y="11"/>
                </a:lnTo>
                <a:lnTo>
                  <a:pt x="1734" y="7"/>
                </a:lnTo>
                <a:lnTo>
                  <a:pt x="1697" y="4"/>
                </a:lnTo>
                <a:lnTo>
                  <a:pt x="1661" y="2"/>
                </a:lnTo>
                <a:lnTo>
                  <a:pt x="1624" y="1"/>
                </a:lnTo>
                <a:lnTo>
                  <a:pt x="1588" y="0"/>
                </a:lnTo>
                <a:lnTo>
                  <a:pt x="1551" y="1"/>
                </a:lnTo>
                <a:lnTo>
                  <a:pt x="1514" y="2"/>
                </a:lnTo>
                <a:lnTo>
                  <a:pt x="1477" y="4"/>
                </a:lnTo>
                <a:lnTo>
                  <a:pt x="1441" y="7"/>
                </a:lnTo>
                <a:lnTo>
                  <a:pt x="1404" y="11"/>
                </a:lnTo>
                <a:lnTo>
                  <a:pt x="1368" y="15"/>
                </a:lnTo>
                <a:lnTo>
                  <a:pt x="1332" y="21"/>
                </a:lnTo>
                <a:lnTo>
                  <a:pt x="1296" y="27"/>
                </a:lnTo>
                <a:lnTo>
                  <a:pt x="1260" y="34"/>
                </a:lnTo>
                <a:lnTo>
                  <a:pt x="1224" y="42"/>
                </a:lnTo>
                <a:lnTo>
                  <a:pt x="1188" y="51"/>
                </a:lnTo>
                <a:lnTo>
                  <a:pt x="1153" y="60"/>
                </a:lnTo>
                <a:lnTo>
                  <a:pt x="1118" y="71"/>
                </a:lnTo>
                <a:lnTo>
                  <a:pt x="1083" y="82"/>
                </a:lnTo>
                <a:lnTo>
                  <a:pt x="1048" y="94"/>
                </a:lnTo>
                <a:lnTo>
                  <a:pt x="1014" y="107"/>
                </a:lnTo>
                <a:lnTo>
                  <a:pt x="980" y="121"/>
                </a:lnTo>
                <a:lnTo>
                  <a:pt x="946" y="135"/>
                </a:lnTo>
                <a:lnTo>
                  <a:pt x="912" y="150"/>
                </a:lnTo>
                <a:lnTo>
                  <a:pt x="880" y="166"/>
                </a:lnTo>
                <a:lnTo>
                  <a:pt x="847" y="183"/>
                </a:lnTo>
                <a:lnTo>
                  <a:pt x="815" y="200"/>
                </a:lnTo>
                <a:lnTo>
                  <a:pt x="783" y="218"/>
                </a:lnTo>
                <a:lnTo>
                  <a:pt x="751" y="237"/>
                </a:lnTo>
                <a:lnTo>
                  <a:pt x="720" y="257"/>
                </a:lnTo>
                <a:lnTo>
                  <a:pt x="691" y="277"/>
                </a:lnTo>
                <a:lnTo>
                  <a:pt x="660" y="298"/>
                </a:lnTo>
                <a:lnTo>
                  <a:pt x="631" y="320"/>
                </a:lnTo>
                <a:lnTo>
                  <a:pt x="602" y="342"/>
                </a:lnTo>
                <a:lnTo>
                  <a:pt x="573" y="365"/>
                </a:lnTo>
                <a:lnTo>
                  <a:pt x="545" y="389"/>
                </a:lnTo>
                <a:lnTo>
                  <a:pt x="518" y="413"/>
                </a:lnTo>
                <a:lnTo>
                  <a:pt x="491" y="438"/>
                </a:lnTo>
                <a:lnTo>
                  <a:pt x="464" y="464"/>
                </a:lnTo>
                <a:lnTo>
                  <a:pt x="439" y="490"/>
                </a:lnTo>
                <a:lnTo>
                  <a:pt x="414" y="516"/>
                </a:lnTo>
                <a:lnTo>
                  <a:pt x="390" y="544"/>
                </a:lnTo>
                <a:lnTo>
                  <a:pt x="366" y="572"/>
                </a:lnTo>
                <a:lnTo>
                  <a:pt x="343" y="600"/>
                </a:lnTo>
                <a:lnTo>
                  <a:pt x="320" y="629"/>
                </a:lnTo>
                <a:lnTo>
                  <a:pt x="299" y="659"/>
                </a:lnTo>
                <a:lnTo>
                  <a:pt x="277" y="689"/>
                </a:lnTo>
                <a:lnTo>
                  <a:pt x="257" y="719"/>
                </a:lnTo>
                <a:lnTo>
                  <a:pt x="237" y="750"/>
                </a:lnTo>
                <a:lnTo>
                  <a:pt x="219" y="781"/>
                </a:lnTo>
                <a:lnTo>
                  <a:pt x="200" y="813"/>
                </a:lnTo>
                <a:lnTo>
                  <a:pt x="183" y="845"/>
                </a:lnTo>
                <a:lnTo>
                  <a:pt x="166" y="878"/>
                </a:lnTo>
                <a:lnTo>
                  <a:pt x="150" y="910"/>
                </a:lnTo>
                <a:lnTo>
                  <a:pt x="135" y="943"/>
                </a:lnTo>
                <a:lnTo>
                  <a:pt x="121" y="977"/>
                </a:lnTo>
                <a:lnTo>
                  <a:pt x="107" y="1011"/>
                </a:lnTo>
                <a:lnTo>
                  <a:pt x="95" y="1045"/>
                </a:lnTo>
                <a:lnTo>
                  <a:pt x="82" y="1080"/>
                </a:lnTo>
                <a:lnTo>
                  <a:pt x="71" y="1115"/>
                </a:lnTo>
                <a:lnTo>
                  <a:pt x="61" y="1150"/>
                </a:lnTo>
                <a:lnTo>
                  <a:pt x="50" y="1185"/>
                </a:lnTo>
                <a:lnTo>
                  <a:pt x="42" y="1221"/>
                </a:lnTo>
                <a:lnTo>
                  <a:pt x="34" y="1256"/>
                </a:lnTo>
                <a:lnTo>
                  <a:pt x="27" y="1292"/>
                </a:lnTo>
                <a:lnTo>
                  <a:pt x="21" y="1329"/>
                </a:lnTo>
                <a:lnTo>
                  <a:pt x="15" y="1365"/>
                </a:lnTo>
                <a:lnTo>
                  <a:pt x="10" y="1401"/>
                </a:lnTo>
                <a:lnTo>
                  <a:pt x="7" y="1437"/>
                </a:lnTo>
                <a:lnTo>
                  <a:pt x="4" y="1473"/>
                </a:lnTo>
                <a:lnTo>
                  <a:pt x="1" y="1510"/>
                </a:lnTo>
                <a:lnTo>
                  <a:pt x="0" y="1547"/>
                </a:lnTo>
                <a:lnTo>
                  <a:pt x="0" y="1583"/>
                </a:lnTo>
                <a:lnTo>
                  <a:pt x="0" y="1620"/>
                </a:lnTo>
                <a:lnTo>
                  <a:pt x="1" y="1656"/>
                </a:lnTo>
                <a:lnTo>
                  <a:pt x="4" y="1693"/>
                </a:lnTo>
                <a:lnTo>
                  <a:pt x="7" y="1729"/>
                </a:lnTo>
                <a:lnTo>
                  <a:pt x="10" y="1766"/>
                </a:lnTo>
                <a:lnTo>
                  <a:pt x="15" y="1802"/>
                </a:lnTo>
                <a:lnTo>
                  <a:pt x="21" y="1838"/>
                </a:lnTo>
                <a:lnTo>
                  <a:pt x="27" y="1874"/>
                </a:lnTo>
                <a:lnTo>
                  <a:pt x="34" y="1910"/>
                </a:lnTo>
                <a:lnTo>
                  <a:pt x="42" y="1945"/>
                </a:lnTo>
                <a:lnTo>
                  <a:pt x="50" y="1981"/>
                </a:lnTo>
                <a:lnTo>
                  <a:pt x="61" y="2017"/>
                </a:lnTo>
                <a:lnTo>
                  <a:pt x="71" y="2051"/>
                </a:lnTo>
                <a:lnTo>
                  <a:pt x="82" y="2086"/>
                </a:lnTo>
                <a:lnTo>
                  <a:pt x="95" y="2121"/>
                </a:lnTo>
                <a:lnTo>
                  <a:pt x="107" y="2155"/>
                </a:lnTo>
                <a:lnTo>
                  <a:pt x="121" y="2189"/>
                </a:lnTo>
                <a:lnTo>
                  <a:pt x="135" y="2223"/>
                </a:lnTo>
                <a:lnTo>
                  <a:pt x="150" y="2256"/>
                </a:lnTo>
                <a:lnTo>
                  <a:pt x="166" y="2289"/>
                </a:lnTo>
                <a:lnTo>
                  <a:pt x="183" y="2321"/>
                </a:lnTo>
                <a:lnTo>
                  <a:pt x="200" y="2353"/>
                </a:lnTo>
                <a:lnTo>
                  <a:pt x="219" y="2385"/>
                </a:lnTo>
                <a:lnTo>
                  <a:pt x="237" y="2417"/>
                </a:lnTo>
                <a:lnTo>
                  <a:pt x="257" y="2448"/>
                </a:lnTo>
                <a:lnTo>
                  <a:pt x="277" y="2478"/>
                </a:lnTo>
                <a:lnTo>
                  <a:pt x="299" y="2508"/>
                </a:lnTo>
                <a:lnTo>
                  <a:pt x="320" y="2537"/>
                </a:lnTo>
                <a:lnTo>
                  <a:pt x="343" y="2566"/>
                </a:lnTo>
                <a:lnTo>
                  <a:pt x="366" y="2594"/>
                </a:lnTo>
                <a:lnTo>
                  <a:pt x="390" y="2622"/>
                </a:lnTo>
                <a:lnTo>
                  <a:pt x="414" y="2650"/>
                </a:lnTo>
                <a:lnTo>
                  <a:pt x="439" y="2676"/>
                </a:lnTo>
                <a:lnTo>
                  <a:pt x="464" y="2702"/>
                </a:lnTo>
                <a:lnTo>
                  <a:pt x="491" y="2728"/>
                </a:lnTo>
                <a:lnTo>
                  <a:pt x="518" y="2753"/>
                </a:lnTo>
                <a:lnTo>
                  <a:pt x="545" y="2777"/>
                </a:lnTo>
                <a:lnTo>
                  <a:pt x="573" y="2801"/>
                </a:lnTo>
                <a:lnTo>
                  <a:pt x="602" y="2824"/>
                </a:lnTo>
                <a:lnTo>
                  <a:pt x="631" y="2847"/>
                </a:lnTo>
                <a:lnTo>
                  <a:pt x="660" y="2868"/>
                </a:lnTo>
                <a:lnTo>
                  <a:pt x="691" y="2889"/>
                </a:lnTo>
                <a:lnTo>
                  <a:pt x="720" y="2909"/>
                </a:lnTo>
                <a:lnTo>
                  <a:pt x="751" y="2929"/>
                </a:lnTo>
                <a:lnTo>
                  <a:pt x="783" y="2948"/>
                </a:lnTo>
                <a:lnTo>
                  <a:pt x="815" y="2966"/>
                </a:lnTo>
                <a:lnTo>
                  <a:pt x="847" y="2984"/>
                </a:lnTo>
                <a:lnTo>
                  <a:pt x="880" y="3001"/>
                </a:lnTo>
                <a:lnTo>
                  <a:pt x="912" y="3016"/>
                </a:lnTo>
                <a:lnTo>
                  <a:pt x="946" y="3031"/>
                </a:lnTo>
                <a:lnTo>
                  <a:pt x="980" y="3046"/>
                </a:lnTo>
                <a:lnTo>
                  <a:pt x="1014" y="3059"/>
                </a:lnTo>
                <a:lnTo>
                  <a:pt x="1048" y="3072"/>
                </a:lnTo>
                <a:lnTo>
                  <a:pt x="1083" y="3084"/>
                </a:lnTo>
                <a:lnTo>
                  <a:pt x="1118" y="3095"/>
                </a:lnTo>
                <a:lnTo>
                  <a:pt x="1153" y="3106"/>
                </a:lnTo>
                <a:lnTo>
                  <a:pt x="1188" y="3115"/>
                </a:lnTo>
                <a:lnTo>
                  <a:pt x="1224" y="3124"/>
                </a:lnTo>
                <a:lnTo>
                  <a:pt x="1260" y="3132"/>
                </a:lnTo>
                <a:lnTo>
                  <a:pt x="1296" y="3139"/>
                </a:lnTo>
                <a:lnTo>
                  <a:pt x="1332" y="3145"/>
                </a:lnTo>
                <a:lnTo>
                  <a:pt x="1368" y="3151"/>
                </a:lnTo>
                <a:lnTo>
                  <a:pt x="1404" y="3156"/>
                </a:lnTo>
                <a:lnTo>
                  <a:pt x="1441" y="3159"/>
                </a:lnTo>
                <a:lnTo>
                  <a:pt x="1477" y="3162"/>
                </a:lnTo>
                <a:lnTo>
                  <a:pt x="1514" y="3165"/>
                </a:lnTo>
                <a:lnTo>
                  <a:pt x="1551" y="3166"/>
                </a:lnTo>
                <a:lnTo>
                  <a:pt x="1588" y="3166"/>
                </a:lnTo>
                <a:lnTo>
                  <a:pt x="1624" y="3166"/>
                </a:lnTo>
                <a:lnTo>
                  <a:pt x="1661" y="3165"/>
                </a:lnTo>
                <a:lnTo>
                  <a:pt x="1697" y="3162"/>
                </a:lnTo>
                <a:lnTo>
                  <a:pt x="1734" y="3159"/>
                </a:lnTo>
                <a:lnTo>
                  <a:pt x="1771" y="3156"/>
                </a:lnTo>
                <a:lnTo>
                  <a:pt x="1806" y="3151"/>
                </a:lnTo>
                <a:lnTo>
                  <a:pt x="1843" y="3145"/>
                </a:lnTo>
                <a:lnTo>
                  <a:pt x="1880" y="3139"/>
                </a:lnTo>
                <a:lnTo>
                  <a:pt x="1915" y="3132"/>
                </a:lnTo>
                <a:lnTo>
                  <a:pt x="1951" y="3124"/>
                </a:lnTo>
                <a:lnTo>
                  <a:pt x="1987" y="3115"/>
                </a:lnTo>
                <a:lnTo>
                  <a:pt x="2022" y="3106"/>
                </a:lnTo>
                <a:lnTo>
                  <a:pt x="2057" y="3095"/>
                </a:lnTo>
                <a:lnTo>
                  <a:pt x="2092" y="3084"/>
                </a:lnTo>
                <a:lnTo>
                  <a:pt x="2127" y="3072"/>
                </a:lnTo>
                <a:lnTo>
                  <a:pt x="2161" y="3059"/>
                </a:lnTo>
                <a:lnTo>
                  <a:pt x="2195" y="3046"/>
                </a:lnTo>
                <a:lnTo>
                  <a:pt x="2229" y="3031"/>
                </a:lnTo>
                <a:lnTo>
                  <a:pt x="2262" y="3016"/>
                </a:lnTo>
                <a:lnTo>
                  <a:pt x="2295" y="3001"/>
                </a:lnTo>
                <a:lnTo>
                  <a:pt x="2328" y="2984"/>
                </a:lnTo>
                <a:lnTo>
                  <a:pt x="2360" y="2966"/>
                </a:lnTo>
                <a:lnTo>
                  <a:pt x="2392" y="2948"/>
                </a:lnTo>
                <a:lnTo>
                  <a:pt x="2423" y="2929"/>
                </a:lnTo>
                <a:lnTo>
                  <a:pt x="2454" y="2909"/>
                </a:lnTo>
                <a:lnTo>
                  <a:pt x="2484" y="2889"/>
                </a:lnTo>
                <a:lnTo>
                  <a:pt x="2515" y="2868"/>
                </a:lnTo>
                <a:lnTo>
                  <a:pt x="2544" y="2847"/>
                </a:lnTo>
                <a:lnTo>
                  <a:pt x="2573" y="2824"/>
                </a:lnTo>
                <a:lnTo>
                  <a:pt x="2602" y="2801"/>
                </a:lnTo>
                <a:lnTo>
                  <a:pt x="2630" y="2777"/>
                </a:lnTo>
                <a:lnTo>
                  <a:pt x="2657" y="2753"/>
                </a:lnTo>
                <a:lnTo>
                  <a:pt x="2684" y="2728"/>
                </a:lnTo>
                <a:lnTo>
                  <a:pt x="2710" y="2702"/>
                </a:lnTo>
                <a:lnTo>
                  <a:pt x="2736" y="2676"/>
                </a:lnTo>
                <a:lnTo>
                  <a:pt x="2761" y="2650"/>
                </a:lnTo>
                <a:lnTo>
                  <a:pt x="2785" y="2622"/>
                </a:lnTo>
                <a:lnTo>
                  <a:pt x="2809" y="2594"/>
                </a:lnTo>
                <a:lnTo>
                  <a:pt x="2832" y="2566"/>
                </a:lnTo>
                <a:lnTo>
                  <a:pt x="2854" y="2537"/>
                </a:lnTo>
                <a:lnTo>
                  <a:pt x="2876" y="2508"/>
                </a:lnTo>
                <a:lnTo>
                  <a:pt x="2897" y="2478"/>
                </a:lnTo>
                <a:lnTo>
                  <a:pt x="2918" y="2448"/>
                </a:lnTo>
                <a:lnTo>
                  <a:pt x="2938" y="2417"/>
                </a:lnTo>
                <a:lnTo>
                  <a:pt x="2956" y="2385"/>
                </a:lnTo>
                <a:lnTo>
                  <a:pt x="2975" y="2353"/>
                </a:lnTo>
                <a:lnTo>
                  <a:pt x="2992" y="2321"/>
                </a:lnTo>
                <a:lnTo>
                  <a:pt x="3009" y="2289"/>
                </a:lnTo>
                <a:lnTo>
                  <a:pt x="3025" y="2256"/>
                </a:lnTo>
                <a:lnTo>
                  <a:pt x="3040" y="2223"/>
                </a:lnTo>
                <a:lnTo>
                  <a:pt x="3054" y="2189"/>
                </a:lnTo>
                <a:lnTo>
                  <a:pt x="3068" y="2155"/>
                </a:lnTo>
                <a:lnTo>
                  <a:pt x="3081" y="2121"/>
                </a:lnTo>
                <a:lnTo>
                  <a:pt x="3093" y="2086"/>
                </a:lnTo>
                <a:lnTo>
                  <a:pt x="3104" y="2051"/>
                </a:lnTo>
                <a:lnTo>
                  <a:pt x="3114" y="2017"/>
                </a:lnTo>
                <a:lnTo>
                  <a:pt x="3124" y="1981"/>
                </a:lnTo>
                <a:lnTo>
                  <a:pt x="3133" y="1945"/>
                </a:lnTo>
                <a:lnTo>
                  <a:pt x="3141" y="1910"/>
                </a:lnTo>
                <a:lnTo>
                  <a:pt x="3148" y="1874"/>
                </a:lnTo>
                <a:lnTo>
                  <a:pt x="3154" y="1838"/>
                </a:lnTo>
                <a:lnTo>
                  <a:pt x="3159" y="1802"/>
                </a:lnTo>
                <a:lnTo>
                  <a:pt x="3165" y="1766"/>
                </a:lnTo>
                <a:lnTo>
                  <a:pt x="3168" y="1729"/>
                </a:lnTo>
                <a:lnTo>
                  <a:pt x="3171" y="1693"/>
                </a:lnTo>
                <a:lnTo>
                  <a:pt x="3174" y="1656"/>
                </a:lnTo>
                <a:lnTo>
                  <a:pt x="3174" y="1620"/>
                </a:lnTo>
                <a:lnTo>
                  <a:pt x="3175" y="158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"/>
          <p:cNvSpPr/>
          <p:nvPr/>
        </p:nvSpPr>
        <p:spPr>
          <a:xfrm>
            <a:off x="2606760" y="1238400"/>
            <a:ext cx="3905280" cy="3894120"/>
          </a:xfrm>
          <a:custGeom>
            <a:avLst/>
            <a:gdLst/>
            <a:ahLst/>
            <a:rect l="l" t="t" r="r" b="b"/>
            <a:pathLst>
              <a:path w="2460" h="2453">
                <a:moveTo>
                  <a:pt x="2459" y="1226"/>
                </a:moveTo>
                <a:lnTo>
                  <a:pt x="2459" y="1194"/>
                </a:lnTo>
                <a:lnTo>
                  <a:pt x="2457" y="1161"/>
                </a:lnTo>
                <a:lnTo>
                  <a:pt x="2455" y="1128"/>
                </a:lnTo>
                <a:lnTo>
                  <a:pt x="2452" y="1094"/>
                </a:lnTo>
                <a:lnTo>
                  <a:pt x="2448" y="1062"/>
                </a:lnTo>
                <a:lnTo>
                  <a:pt x="2444" y="1029"/>
                </a:lnTo>
                <a:lnTo>
                  <a:pt x="2437" y="998"/>
                </a:lnTo>
                <a:lnTo>
                  <a:pt x="2431" y="965"/>
                </a:lnTo>
                <a:lnTo>
                  <a:pt x="2424" y="933"/>
                </a:lnTo>
                <a:lnTo>
                  <a:pt x="2415" y="901"/>
                </a:lnTo>
                <a:lnTo>
                  <a:pt x="2406" y="869"/>
                </a:lnTo>
                <a:lnTo>
                  <a:pt x="2396" y="838"/>
                </a:lnTo>
                <a:lnTo>
                  <a:pt x="2385" y="807"/>
                </a:lnTo>
                <a:lnTo>
                  <a:pt x="2373" y="776"/>
                </a:lnTo>
                <a:lnTo>
                  <a:pt x="2360" y="745"/>
                </a:lnTo>
                <a:lnTo>
                  <a:pt x="2347" y="715"/>
                </a:lnTo>
                <a:lnTo>
                  <a:pt x="2333" y="686"/>
                </a:lnTo>
                <a:lnTo>
                  <a:pt x="2318" y="656"/>
                </a:lnTo>
                <a:lnTo>
                  <a:pt x="2302" y="628"/>
                </a:lnTo>
                <a:lnTo>
                  <a:pt x="2286" y="599"/>
                </a:lnTo>
                <a:lnTo>
                  <a:pt x="2269" y="571"/>
                </a:lnTo>
                <a:lnTo>
                  <a:pt x="2251" y="544"/>
                </a:lnTo>
                <a:lnTo>
                  <a:pt x="2232" y="516"/>
                </a:lnTo>
                <a:lnTo>
                  <a:pt x="2212" y="490"/>
                </a:lnTo>
                <a:lnTo>
                  <a:pt x="2192" y="464"/>
                </a:lnTo>
                <a:lnTo>
                  <a:pt x="2171" y="438"/>
                </a:lnTo>
                <a:lnTo>
                  <a:pt x="2150" y="413"/>
                </a:lnTo>
                <a:lnTo>
                  <a:pt x="2127" y="389"/>
                </a:lnTo>
                <a:lnTo>
                  <a:pt x="2105" y="365"/>
                </a:lnTo>
                <a:lnTo>
                  <a:pt x="2081" y="342"/>
                </a:lnTo>
                <a:lnTo>
                  <a:pt x="2057" y="320"/>
                </a:lnTo>
                <a:lnTo>
                  <a:pt x="2033" y="298"/>
                </a:lnTo>
                <a:lnTo>
                  <a:pt x="2007" y="276"/>
                </a:lnTo>
                <a:lnTo>
                  <a:pt x="1982" y="256"/>
                </a:lnTo>
                <a:lnTo>
                  <a:pt x="1955" y="236"/>
                </a:lnTo>
                <a:lnTo>
                  <a:pt x="1928" y="218"/>
                </a:lnTo>
                <a:lnTo>
                  <a:pt x="1901" y="198"/>
                </a:lnTo>
                <a:lnTo>
                  <a:pt x="1872" y="182"/>
                </a:lnTo>
                <a:lnTo>
                  <a:pt x="1844" y="165"/>
                </a:lnTo>
                <a:lnTo>
                  <a:pt x="1815" y="148"/>
                </a:lnTo>
                <a:lnTo>
                  <a:pt x="1787" y="133"/>
                </a:lnTo>
                <a:lnTo>
                  <a:pt x="1757" y="118"/>
                </a:lnTo>
                <a:lnTo>
                  <a:pt x="1726" y="105"/>
                </a:lnTo>
                <a:lnTo>
                  <a:pt x="1696" y="92"/>
                </a:lnTo>
                <a:lnTo>
                  <a:pt x="1666" y="80"/>
                </a:lnTo>
                <a:lnTo>
                  <a:pt x="1635" y="68"/>
                </a:lnTo>
                <a:lnTo>
                  <a:pt x="1603" y="58"/>
                </a:lnTo>
                <a:lnTo>
                  <a:pt x="1571" y="48"/>
                </a:lnTo>
                <a:lnTo>
                  <a:pt x="1540" y="40"/>
                </a:lnTo>
                <a:lnTo>
                  <a:pt x="1507" y="32"/>
                </a:lnTo>
                <a:lnTo>
                  <a:pt x="1475" y="25"/>
                </a:lnTo>
                <a:lnTo>
                  <a:pt x="1443" y="19"/>
                </a:lnTo>
                <a:lnTo>
                  <a:pt x="1410" y="14"/>
                </a:lnTo>
                <a:lnTo>
                  <a:pt x="1377" y="9"/>
                </a:lnTo>
                <a:lnTo>
                  <a:pt x="1345" y="5"/>
                </a:lnTo>
                <a:lnTo>
                  <a:pt x="1312" y="3"/>
                </a:lnTo>
                <a:lnTo>
                  <a:pt x="1278" y="2"/>
                </a:lnTo>
                <a:lnTo>
                  <a:pt x="1246" y="0"/>
                </a:lnTo>
                <a:lnTo>
                  <a:pt x="1213" y="0"/>
                </a:lnTo>
                <a:lnTo>
                  <a:pt x="1180" y="2"/>
                </a:lnTo>
                <a:lnTo>
                  <a:pt x="1147" y="3"/>
                </a:lnTo>
                <a:lnTo>
                  <a:pt x="1114" y="5"/>
                </a:lnTo>
                <a:lnTo>
                  <a:pt x="1081" y="9"/>
                </a:lnTo>
                <a:lnTo>
                  <a:pt x="1048" y="14"/>
                </a:lnTo>
                <a:lnTo>
                  <a:pt x="1016" y="19"/>
                </a:lnTo>
                <a:lnTo>
                  <a:pt x="983" y="25"/>
                </a:lnTo>
                <a:lnTo>
                  <a:pt x="952" y="32"/>
                </a:lnTo>
                <a:lnTo>
                  <a:pt x="919" y="40"/>
                </a:lnTo>
                <a:lnTo>
                  <a:pt x="888" y="48"/>
                </a:lnTo>
                <a:lnTo>
                  <a:pt x="856" y="58"/>
                </a:lnTo>
                <a:lnTo>
                  <a:pt x="824" y="68"/>
                </a:lnTo>
                <a:lnTo>
                  <a:pt x="793" y="80"/>
                </a:lnTo>
                <a:lnTo>
                  <a:pt x="763" y="92"/>
                </a:lnTo>
                <a:lnTo>
                  <a:pt x="733" y="105"/>
                </a:lnTo>
                <a:lnTo>
                  <a:pt x="702" y="118"/>
                </a:lnTo>
                <a:lnTo>
                  <a:pt x="672" y="133"/>
                </a:lnTo>
                <a:lnTo>
                  <a:pt x="643" y="148"/>
                </a:lnTo>
                <a:lnTo>
                  <a:pt x="615" y="165"/>
                </a:lnTo>
                <a:lnTo>
                  <a:pt x="586" y="182"/>
                </a:lnTo>
                <a:lnTo>
                  <a:pt x="558" y="198"/>
                </a:lnTo>
                <a:lnTo>
                  <a:pt x="531" y="218"/>
                </a:lnTo>
                <a:lnTo>
                  <a:pt x="504" y="236"/>
                </a:lnTo>
                <a:lnTo>
                  <a:pt x="477" y="256"/>
                </a:lnTo>
                <a:lnTo>
                  <a:pt x="452" y="276"/>
                </a:lnTo>
                <a:lnTo>
                  <a:pt x="426" y="298"/>
                </a:lnTo>
                <a:lnTo>
                  <a:pt x="402" y="320"/>
                </a:lnTo>
                <a:lnTo>
                  <a:pt x="378" y="342"/>
                </a:lnTo>
                <a:lnTo>
                  <a:pt x="354" y="365"/>
                </a:lnTo>
                <a:lnTo>
                  <a:pt x="331" y="389"/>
                </a:lnTo>
                <a:lnTo>
                  <a:pt x="309" y="413"/>
                </a:lnTo>
                <a:lnTo>
                  <a:pt x="287" y="438"/>
                </a:lnTo>
                <a:lnTo>
                  <a:pt x="267" y="464"/>
                </a:lnTo>
                <a:lnTo>
                  <a:pt x="247" y="490"/>
                </a:lnTo>
                <a:lnTo>
                  <a:pt x="227" y="516"/>
                </a:lnTo>
                <a:lnTo>
                  <a:pt x="208" y="544"/>
                </a:lnTo>
                <a:lnTo>
                  <a:pt x="190" y="571"/>
                </a:lnTo>
                <a:lnTo>
                  <a:pt x="173" y="599"/>
                </a:lnTo>
                <a:lnTo>
                  <a:pt x="157" y="628"/>
                </a:lnTo>
                <a:lnTo>
                  <a:pt x="140" y="656"/>
                </a:lnTo>
                <a:lnTo>
                  <a:pt x="126" y="686"/>
                </a:lnTo>
                <a:lnTo>
                  <a:pt x="112" y="715"/>
                </a:lnTo>
                <a:lnTo>
                  <a:pt x="98" y="745"/>
                </a:lnTo>
                <a:lnTo>
                  <a:pt x="86" y="776"/>
                </a:lnTo>
                <a:lnTo>
                  <a:pt x="74" y="807"/>
                </a:lnTo>
                <a:lnTo>
                  <a:pt x="63" y="838"/>
                </a:lnTo>
                <a:lnTo>
                  <a:pt x="52" y="869"/>
                </a:lnTo>
                <a:lnTo>
                  <a:pt x="44" y="901"/>
                </a:lnTo>
                <a:lnTo>
                  <a:pt x="35" y="933"/>
                </a:lnTo>
                <a:lnTo>
                  <a:pt x="28" y="965"/>
                </a:lnTo>
                <a:lnTo>
                  <a:pt x="22" y="998"/>
                </a:lnTo>
                <a:lnTo>
                  <a:pt x="15" y="1029"/>
                </a:lnTo>
                <a:lnTo>
                  <a:pt x="11" y="1062"/>
                </a:lnTo>
                <a:lnTo>
                  <a:pt x="7" y="1094"/>
                </a:lnTo>
                <a:lnTo>
                  <a:pt x="4" y="1128"/>
                </a:lnTo>
                <a:lnTo>
                  <a:pt x="2" y="1161"/>
                </a:lnTo>
                <a:lnTo>
                  <a:pt x="0" y="1194"/>
                </a:lnTo>
                <a:lnTo>
                  <a:pt x="0" y="1226"/>
                </a:lnTo>
                <a:lnTo>
                  <a:pt x="0" y="1259"/>
                </a:lnTo>
                <a:lnTo>
                  <a:pt x="2" y="1292"/>
                </a:lnTo>
                <a:lnTo>
                  <a:pt x="4" y="1325"/>
                </a:lnTo>
                <a:lnTo>
                  <a:pt x="7" y="1358"/>
                </a:lnTo>
                <a:lnTo>
                  <a:pt x="11" y="1391"/>
                </a:lnTo>
                <a:lnTo>
                  <a:pt x="15" y="1423"/>
                </a:lnTo>
                <a:lnTo>
                  <a:pt x="22" y="1455"/>
                </a:lnTo>
                <a:lnTo>
                  <a:pt x="28" y="1488"/>
                </a:lnTo>
                <a:lnTo>
                  <a:pt x="35" y="1520"/>
                </a:lnTo>
                <a:lnTo>
                  <a:pt x="44" y="1551"/>
                </a:lnTo>
                <a:lnTo>
                  <a:pt x="52" y="1583"/>
                </a:lnTo>
                <a:lnTo>
                  <a:pt x="63" y="1614"/>
                </a:lnTo>
                <a:lnTo>
                  <a:pt x="74" y="1645"/>
                </a:lnTo>
                <a:lnTo>
                  <a:pt x="86" y="1676"/>
                </a:lnTo>
                <a:lnTo>
                  <a:pt x="98" y="1707"/>
                </a:lnTo>
                <a:lnTo>
                  <a:pt x="112" y="1737"/>
                </a:lnTo>
                <a:lnTo>
                  <a:pt x="126" y="1767"/>
                </a:lnTo>
                <a:lnTo>
                  <a:pt x="140" y="1796"/>
                </a:lnTo>
                <a:lnTo>
                  <a:pt x="157" y="1825"/>
                </a:lnTo>
                <a:lnTo>
                  <a:pt x="173" y="1854"/>
                </a:lnTo>
                <a:lnTo>
                  <a:pt x="190" y="1882"/>
                </a:lnTo>
                <a:lnTo>
                  <a:pt x="208" y="1909"/>
                </a:lnTo>
                <a:lnTo>
                  <a:pt x="227" y="1937"/>
                </a:lnTo>
                <a:lnTo>
                  <a:pt x="247" y="1963"/>
                </a:lnTo>
                <a:lnTo>
                  <a:pt x="267" y="1989"/>
                </a:lnTo>
                <a:lnTo>
                  <a:pt x="287" y="2014"/>
                </a:lnTo>
                <a:lnTo>
                  <a:pt x="309" y="2039"/>
                </a:lnTo>
                <a:lnTo>
                  <a:pt x="331" y="2064"/>
                </a:lnTo>
                <a:lnTo>
                  <a:pt x="354" y="2087"/>
                </a:lnTo>
                <a:lnTo>
                  <a:pt x="378" y="2111"/>
                </a:lnTo>
                <a:lnTo>
                  <a:pt x="402" y="2133"/>
                </a:lnTo>
                <a:lnTo>
                  <a:pt x="426" y="2154"/>
                </a:lnTo>
                <a:lnTo>
                  <a:pt x="452" y="2176"/>
                </a:lnTo>
                <a:lnTo>
                  <a:pt x="477" y="2197"/>
                </a:lnTo>
                <a:lnTo>
                  <a:pt x="504" y="2217"/>
                </a:lnTo>
                <a:lnTo>
                  <a:pt x="531" y="2235"/>
                </a:lnTo>
                <a:lnTo>
                  <a:pt x="558" y="2254"/>
                </a:lnTo>
                <a:lnTo>
                  <a:pt x="586" y="2271"/>
                </a:lnTo>
                <a:lnTo>
                  <a:pt x="615" y="2288"/>
                </a:lnTo>
                <a:lnTo>
                  <a:pt x="643" y="2304"/>
                </a:lnTo>
                <a:lnTo>
                  <a:pt x="672" y="2320"/>
                </a:lnTo>
                <a:lnTo>
                  <a:pt x="702" y="2334"/>
                </a:lnTo>
                <a:lnTo>
                  <a:pt x="733" y="2347"/>
                </a:lnTo>
                <a:lnTo>
                  <a:pt x="763" y="2360"/>
                </a:lnTo>
                <a:lnTo>
                  <a:pt x="793" y="2373"/>
                </a:lnTo>
                <a:lnTo>
                  <a:pt x="824" y="2384"/>
                </a:lnTo>
                <a:lnTo>
                  <a:pt x="856" y="2394"/>
                </a:lnTo>
                <a:lnTo>
                  <a:pt x="888" y="2404"/>
                </a:lnTo>
                <a:lnTo>
                  <a:pt x="919" y="2413"/>
                </a:lnTo>
                <a:lnTo>
                  <a:pt x="952" y="2420"/>
                </a:lnTo>
                <a:lnTo>
                  <a:pt x="983" y="2427"/>
                </a:lnTo>
                <a:lnTo>
                  <a:pt x="1016" y="2434"/>
                </a:lnTo>
                <a:lnTo>
                  <a:pt x="1048" y="2439"/>
                </a:lnTo>
                <a:lnTo>
                  <a:pt x="1081" y="2444"/>
                </a:lnTo>
                <a:lnTo>
                  <a:pt x="1114" y="2447"/>
                </a:lnTo>
                <a:lnTo>
                  <a:pt x="1147" y="2450"/>
                </a:lnTo>
                <a:lnTo>
                  <a:pt x="1180" y="2451"/>
                </a:lnTo>
                <a:lnTo>
                  <a:pt x="1213" y="2452"/>
                </a:lnTo>
                <a:lnTo>
                  <a:pt x="1246" y="2452"/>
                </a:lnTo>
                <a:lnTo>
                  <a:pt x="1278" y="2451"/>
                </a:lnTo>
                <a:lnTo>
                  <a:pt x="1312" y="2450"/>
                </a:lnTo>
                <a:lnTo>
                  <a:pt x="1345" y="2447"/>
                </a:lnTo>
                <a:lnTo>
                  <a:pt x="1377" y="2444"/>
                </a:lnTo>
                <a:lnTo>
                  <a:pt x="1410" y="2439"/>
                </a:lnTo>
                <a:lnTo>
                  <a:pt x="1443" y="2434"/>
                </a:lnTo>
                <a:lnTo>
                  <a:pt x="1475" y="2427"/>
                </a:lnTo>
                <a:lnTo>
                  <a:pt x="1507" y="2420"/>
                </a:lnTo>
                <a:lnTo>
                  <a:pt x="1540" y="2413"/>
                </a:lnTo>
                <a:lnTo>
                  <a:pt x="1571" y="2404"/>
                </a:lnTo>
                <a:lnTo>
                  <a:pt x="1603" y="2394"/>
                </a:lnTo>
                <a:lnTo>
                  <a:pt x="1635" y="2384"/>
                </a:lnTo>
                <a:lnTo>
                  <a:pt x="1666" y="2373"/>
                </a:lnTo>
                <a:lnTo>
                  <a:pt x="1696" y="2360"/>
                </a:lnTo>
                <a:lnTo>
                  <a:pt x="1726" y="2347"/>
                </a:lnTo>
                <a:lnTo>
                  <a:pt x="1757" y="2334"/>
                </a:lnTo>
                <a:lnTo>
                  <a:pt x="1787" y="2320"/>
                </a:lnTo>
                <a:lnTo>
                  <a:pt x="1815" y="2304"/>
                </a:lnTo>
                <a:lnTo>
                  <a:pt x="1844" y="2288"/>
                </a:lnTo>
                <a:lnTo>
                  <a:pt x="1872" y="2271"/>
                </a:lnTo>
                <a:lnTo>
                  <a:pt x="1901" y="2254"/>
                </a:lnTo>
                <a:lnTo>
                  <a:pt x="1928" y="2235"/>
                </a:lnTo>
                <a:lnTo>
                  <a:pt x="1955" y="2217"/>
                </a:lnTo>
                <a:lnTo>
                  <a:pt x="1982" y="2197"/>
                </a:lnTo>
                <a:lnTo>
                  <a:pt x="2007" y="2176"/>
                </a:lnTo>
                <a:lnTo>
                  <a:pt x="2033" y="2154"/>
                </a:lnTo>
                <a:lnTo>
                  <a:pt x="2057" y="2133"/>
                </a:lnTo>
                <a:lnTo>
                  <a:pt x="2081" y="2111"/>
                </a:lnTo>
                <a:lnTo>
                  <a:pt x="2105" y="2087"/>
                </a:lnTo>
                <a:lnTo>
                  <a:pt x="2127" y="2064"/>
                </a:lnTo>
                <a:lnTo>
                  <a:pt x="2150" y="2039"/>
                </a:lnTo>
                <a:lnTo>
                  <a:pt x="2171" y="2014"/>
                </a:lnTo>
                <a:lnTo>
                  <a:pt x="2192" y="1989"/>
                </a:lnTo>
                <a:lnTo>
                  <a:pt x="2212" y="1963"/>
                </a:lnTo>
                <a:lnTo>
                  <a:pt x="2232" y="1937"/>
                </a:lnTo>
                <a:lnTo>
                  <a:pt x="2251" y="1909"/>
                </a:lnTo>
                <a:lnTo>
                  <a:pt x="2269" y="1882"/>
                </a:lnTo>
                <a:lnTo>
                  <a:pt x="2286" y="1854"/>
                </a:lnTo>
                <a:lnTo>
                  <a:pt x="2302" y="1825"/>
                </a:lnTo>
                <a:lnTo>
                  <a:pt x="2318" y="1796"/>
                </a:lnTo>
                <a:lnTo>
                  <a:pt x="2333" y="1767"/>
                </a:lnTo>
                <a:lnTo>
                  <a:pt x="2347" y="1737"/>
                </a:lnTo>
                <a:lnTo>
                  <a:pt x="2360" y="1707"/>
                </a:lnTo>
                <a:lnTo>
                  <a:pt x="2373" y="1676"/>
                </a:lnTo>
                <a:lnTo>
                  <a:pt x="2385" y="1645"/>
                </a:lnTo>
                <a:lnTo>
                  <a:pt x="2396" y="1614"/>
                </a:lnTo>
                <a:lnTo>
                  <a:pt x="2406" y="1583"/>
                </a:lnTo>
                <a:lnTo>
                  <a:pt x="2415" y="1551"/>
                </a:lnTo>
                <a:lnTo>
                  <a:pt x="2424" y="1520"/>
                </a:lnTo>
                <a:lnTo>
                  <a:pt x="2431" y="1488"/>
                </a:lnTo>
                <a:lnTo>
                  <a:pt x="2437" y="1455"/>
                </a:lnTo>
                <a:lnTo>
                  <a:pt x="2444" y="1423"/>
                </a:lnTo>
                <a:lnTo>
                  <a:pt x="2448" y="1391"/>
                </a:lnTo>
                <a:lnTo>
                  <a:pt x="2452" y="1358"/>
                </a:lnTo>
                <a:lnTo>
                  <a:pt x="2455" y="1325"/>
                </a:lnTo>
                <a:lnTo>
                  <a:pt x="2457" y="1292"/>
                </a:lnTo>
                <a:lnTo>
                  <a:pt x="2459" y="1259"/>
                </a:lnTo>
                <a:lnTo>
                  <a:pt x="2459" y="122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2930400"/>
            <a:ext cx="457200" cy="454320"/>
          </a:xfrm>
          <a:custGeom>
            <a:avLst/>
            <a:gdLst/>
            <a:ahLst/>
            <a:rect l="l" t="t" r="r" b="b"/>
            <a:pathLst>
              <a:path w="288" h="286">
                <a:moveTo>
                  <a:pt x="287" y="142"/>
                </a:moveTo>
                <a:lnTo>
                  <a:pt x="286" y="133"/>
                </a:lnTo>
                <a:lnTo>
                  <a:pt x="285" y="124"/>
                </a:lnTo>
                <a:lnTo>
                  <a:pt x="284" y="114"/>
                </a:lnTo>
                <a:lnTo>
                  <a:pt x="281" y="105"/>
                </a:lnTo>
                <a:lnTo>
                  <a:pt x="279" y="96"/>
                </a:lnTo>
                <a:lnTo>
                  <a:pt x="276" y="87"/>
                </a:lnTo>
                <a:lnTo>
                  <a:pt x="271" y="78"/>
                </a:lnTo>
                <a:lnTo>
                  <a:pt x="267" y="70"/>
                </a:lnTo>
                <a:lnTo>
                  <a:pt x="262" y="62"/>
                </a:lnTo>
                <a:lnTo>
                  <a:pt x="256" y="54"/>
                </a:lnTo>
                <a:lnTo>
                  <a:pt x="250" y="47"/>
                </a:lnTo>
                <a:lnTo>
                  <a:pt x="243" y="40"/>
                </a:lnTo>
                <a:lnTo>
                  <a:pt x="236" y="33"/>
                </a:lnTo>
                <a:lnTo>
                  <a:pt x="228" y="28"/>
                </a:lnTo>
                <a:lnTo>
                  <a:pt x="221" y="22"/>
                </a:lnTo>
                <a:lnTo>
                  <a:pt x="213" y="18"/>
                </a:lnTo>
                <a:lnTo>
                  <a:pt x="204" y="13"/>
                </a:lnTo>
                <a:lnTo>
                  <a:pt x="195" y="9"/>
                </a:lnTo>
                <a:lnTo>
                  <a:pt x="186" y="7"/>
                </a:lnTo>
                <a:lnTo>
                  <a:pt x="176" y="4"/>
                </a:lnTo>
                <a:lnTo>
                  <a:pt x="168" y="2"/>
                </a:lnTo>
                <a:lnTo>
                  <a:pt x="157" y="1"/>
                </a:lnTo>
                <a:lnTo>
                  <a:pt x="148" y="0"/>
                </a:lnTo>
                <a:lnTo>
                  <a:pt x="138" y="0"/>
                </a:lnTo>
                <a:lnTo>
                  <a:pt x="129" y="1"/>
                </a:lnTo>
                <a:lnTo>
                  <a:pt x="119" y="2"/>
                </a:lnTo>
                <a:lnTo>
                  <a:pt x="110" y="4"/>
                </a:lnTo>
                <a:lnTo>
                  <a:pt x="101" y="7"/>
                </a:lnTo>
                <a:lnTo>
                  <a:pt x="92" y="9"/>
                </a:lnTo>
                <a:lnTo>
                  <a:pt x="83" y="13"/>
                </a:lnTo>
                <a:lnTo>
                  <a:pt x="74" y="18"/>
                </a:lnTo>
                <a:lnTo>
                  <a:pt x="66" y="22"/>
                </a:lnTo>
                <a:lnTo>
                  <a:pt x="59" y="28"/>
                </a:lnTo>
                <a:lnTo>
                  <a:pt x="51" y="33"/>
                </a:lnTo>
                <a:lnTo>
                  <a:pt x="44" y="40"/>
                </a:lnTo>
                <a:lnTo>
                  <a:pt x="37" y="47"/>
                </a:lnTo>
                <a:lnTo>
                  <a:pt x="31" y="54"/>
                </a:lnTo>
                <a:lnTo>
                  <a:pt x="25" y="62"/>
                </a:lnTo>
                <a:lnTo>
                  <a:pt x="20" y="70"/>
                </a:lnTo>
                <a:lnTo>
                  <a:pt x="16" y="78"/>
                </a:lnTo>
                <a:lnTo>
                  <a:pt x="11" y="87"/>
                </a:lnTo>
                <a:lnTo>
                  <a:pt x="8" y="96"/>
                </a:lnTo>
                <a:lnTo>
                  <a:pt x="5" y="105"/>
                </a:lnTo>
                <a:lnTo>
                  <a:pt x="3" y="114"/>
                </a:lnTo>
                <a:lnTo>
                  <a:pt x="1" y="124"/>
                </a:lnTo>
                <a:lnTo>
                  <a:pt x="1" y="133"/>
                </a:lnTo>
                <a:lnTo>
                  <a:pt x="0" y="142"/>
                </a:lnTo>
                <a:lnTo>
                  <a:pt x="1" y="152"/>
                </a:lnTo>
                <a:lnTo>
                  <a:pt x="1" y="162"/>
                </a:lnTo>
                <a:lnTo>
                  <a:pt x="3" y="171"/>
                </a:lnTo>
                <a:lnTo>
                  <a:pt x="5" y="181"/>
                </a:lnTo>
                <a:lnTo>
                  <a:pt x="8" y="189"/>
                </a:lnTo>
                <a:lnTo>
                  <a:pt x="11" y="198"/>
                </a:lnTo>
                <a:lnTo>
                  <a:pt x="16" y="207"/>
                </a:lnTo>
                <a:lnTo>
                  <a:pt x="20" y="216"/>
                </a:lnTo>
                <a:lnTo>
                  <a:pt x="25" y="223"/>
                </a:lnTo>
                <a:lnTo>
                  <a:pt x="31" y="231"/>
                </a:lnTo>
                <a:lnTo>
                  <a:pt x="37" y="238"/>
                </a:lnTo>
                <a:lnTo>
                  <a:pt x="44" y="245"/>
                </a:lnTo>
                <a:lnTo>
                  <a:pt x="51" y="251"/>
                </a:lnTo>
                <a:lnTo>
                  <a:pt x="59" y="257"/>
                </a:lnTo>
                <a:lnTo>
                  <a:pt x="66" y="263"/>
                </a:lnTo>
                <a:lnTo>
                  <a:pt x="74" y="268"/>
                </a:lnTo>
                <a:lnTo>
                  <a:pt x="83" y="272"/>
                </a:lnTo>
                <a:lnTo>
                  <a:pt x="92" y="276"/>
                </a:lnTo>
                <a:lnTo>
                  <a:pt x="101" y="279"/>
                </a:lnTo>
                <a:lnTo>
                  <a:pt x="110" y="281"/>
                </a:lnTo>
                <a:lnTo>
                  <a:pt x="119" y="283"/>
                </a:lnTo>
                <a:lnTo>
                  <a:pt x="129" y="284"/>
                </a:lnTo>
                <a:lnTo>
                  <a:pt x="138" y="285"/>
                </a:lnTo>
                <a:lnTo>
                  <a:pt x="148" y="285"/>
                </a:lnTo>
                <a:lnTo>
                  <a:pt x="157" y="284"/>
                </a:lnTo>
                <a:lnTo>
                  <a:pt x="168" y="283"/>
                </a:lnTo>
                <a:lnTo>
                  <a:pt x="176" y="281"/>
                </a:lnTo>
                <a:lnTo>
                  <a:pt x="186" y="279"/>
                </a:lnTo>
                <a:lnTo>
                  <a:pt x="195" y="276"/>
                </a:lnTo>
                <a:lnTo>
                  <a:pt x="204" y="272"/>
                </a:lnTo>
                <a:lnTo>
                  <a:pt x="213" y="268"/>
                </a:lnTo>
                <a:lnTo>
                  <a:pt x="221" y="263"/>
                </a:lnTo>
                <a:lnTo>
                  <a:pt x="228" y="257"/>
                </a:lnTo>
                <a:lnTo>
                  <a:pt x="236" y="251"/>
                </a:lnTo>
                <a:lnTo>
                  <a:pt x="243" y="245"/>
                </a:lnTo>
                <a:lnTo>
                  <a:pt x="250" y="238"/>
                </a:lnTo>
                <a:lnTo>
                  <a:pt x="256" y="231"/>
                </a:lnTo>
                <a:lnTo>
                  <a:pt x="262" y="223"/>
                </a:lnTo>
                <a:lnTo>
                  <a:pt x="267" y="216"/>
                </a:lnTo>
                <a:lnTo>
                  <a:pt x="271" y="207"/>
                </a:lnTo>
                <a:lnTo>
                  <a:pt x="276" y="198"/>
                </a:lnTo>
                <a:lnTo>
                  <a:pt x="279" y="189"/>
                </a:lnTo>
                <a:lnTo>
                  <a:pt x="281" y="181"/>
                </a:lnTo>
                <a:lnTo>
                  <a:pt x="284" y="171"/>
                </a:lnTo>
                <a:lnTo>
                  <a:pt x="285" y="162"/>
                </a:lnTo>
                <a:lnTo>
                  <a:pt x="286" y="152"/>
                </a:lnTo>
                <a:lnTo>
                  <a:pt x="287" y="142"/>
                </a:lnTo>
              </a:path>
            </a:pathLst>
          </a:custGeom>
          <a:solidFill>
            <a:srgbClr val="712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34080" y="1165320"/>
            <a:ext cx="342720" cy="4874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00600" y="661680"/>
            <a:ext cx="57240" cy="5842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6543720" y="3394080"/>
            <a:ext cx="492120" cy="27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2" name=""/>
          <p:cNvSpPr/>
          <p:nvPr/>
        </p:nvSpPr>
        <p:spPr>
          <a:xfrm>
            <a:off x="6138720" y="4367160"/>
            <a:ext cx="419400" cy="301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38280" y="5118120"/>
            <a:ext cx="96840" cy="5526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048120" y="4753080"/>
            <a:ext cx="374400" cy="4395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511360" y="1601640"/>
            <a:ext cx="563760" cy="432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011320" y="2836440"/>
            <a:ext cx="620640" cy="71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381720" y="2198160"/>
            <a:ext cx="471600" cy="243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20480" y="3941640"/>
            <a:ext cx="574920" cy="2224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95680" y="803160"/>
            <a:ext cx="272880" cy="604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5369040" y="4954680"/>
            <a:ext cx="195120" cy="490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 rot="19200000">
            <a:off x="2976120" y="11113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 rot="17700000">
            <a:off x="2265120" y="20484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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 rot="15600000">
            <a:off x="2149200" y="32580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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 rot="2760000">
            <a:off x="2545560" y="43027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 rot="12420000">
            <a:off x="3403080" y="49071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 rot="10260000">
            <a:off x="4555440" y="50911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 rot="8280000">
            <a:off x="5631480" y="46288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 rot="6900000">
            <a:off x="6316200" y="37900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 rot="4920000">
            <a:off x="6507360" y="26802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"/>
          <p:cNvSpPr/>
          <p:nvPr/>
        </p:nvSpPr>
        <p:spPr>
          <a:xfrm rot="3000000">
            <a:off x="6081840" y="16311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 rot="1200000">
            <a:off x="5176800" y="8859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"/>
          <p:cNvSpPr/>
          <p:nvPr/>
        </p:nvSpPr>
        <p:spPr>
          <a:xfrm rot="20700000">
            <a:off x="4095360" y="7203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"/>
          <p:cNvSpPr/>
          <p:nvPr/>
        </p:nvSpPr>
        <p:spPr>
          <a:xfrm>
            <a:off x="4592520" y="1833480"/>
            <a:ext cx="0" cy="1103400"/>
          </a:xfrm>
          <a:prstGeom prst="line">
            <a:avLst/>
          </a:prstGeom>
          <a:ln w="1260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92520" y="523800"/>
            <a:ext cx="0" cy="703440"/>
          </a:xfrm>
          <a:prstGeom prst="line">
            <a:avLst/>
          </a:prstGeom>
          <a:ln w="1260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"/>
          <p:cNvSpPr/>
          <p:nvPr/>
        </p:nvSpPr>
        <p:spPr>
          <a:xfrm>
            <a:off x="3889440" y="1407960"/>
            <a:ext cx="635040" cy="1548000"/>
          </a:xfrm>
          <a:prstGeom prst="line">
            <a:avLst/>
          </a:prstGeom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430080" y="564840"/>
            <a:ext cx="174600" cy="276120"/>
          </a:xfrm>
          <a:prstGeom prst="line">
            <a:avLst/>
          </a:prstGeom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"/>
          <p:cNvSpPr/>
          <p:nvPr/>
        </p:nvSpPr>
        <p:spPr>
          <a:xfrm>
            <a:off x="4301280" y="-46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"/>
          <p:cNvSpPr/>
          <p:nvPr/>
        </p:nvSpPr>
        <p:spPr>
          <a:xfrm rot="20160000">
            <a:off x="3105000" y="1076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"/>
          <p:cNvSpPr/>
          <p:nvPr/>
        </p:nvSpPr>
        <p:spPr>
          <a:xfrm rot="20640000">
            <a:off x="3917520" y="13093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"/>
          <p:cNvSpPr/>
          <p:nvPr/>
        </p:nvSpPr>
        <p:spPr>
          <a:xfrm rot="19200000">
            <a:off x="3164400" y="17305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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"/>
          <p:cNvSpPr/>
          <p:nvPr/>
        </p:nvSpPr>
        <p:spPr>
          <a:xfrm rot="16860000">
            <a:off x="2721960" y="25261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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"/>
          <p:cNvSpPr/>
          <p:nvPr/>
        </p:nvSpPr>
        <p:spPr>
          <a:xfrm rot="15420000">
            <a:off x="2731680" y="33469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"/>
          <p:cNvSpPr/>
          <p:nvPr/>
        </p:nvSpPr>
        <p:spPr>
          <a:xfrm rot="13140000">
            <a:off x="3140280" y="4092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"/>
          <p:cNvSpPr/>
          <p:nvPr/>
        </p:nvSpPr>
        <p:spPr>
          <a:xfrm rot="11760000">
            <a:off x="3889080" y="45212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"/>
          <p:cNvSpPr/>
          <p:nvPr/>
        </p:nvSpPr>
        <p:spPr>
          <a:xfrm rot="9900000">
            <a:off x="4718520" y="45043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"/>
          <p:cNvSpPr/>
          <p:nvPr/>
        </p:nvSpPr>
        <p:spPr>
          <a:xfrm rot="7920000">
            <a:off x="5441760" y="41317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 rot="5760000">
            <a:off x="5898960" y="33296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"/>
          <p:cNvSpPr/>
          <p:nvPr/>
        </p:nvSpPr>
        <p:spPr>
          <a:xfrm rot="4260000">
            <a:off x="5870160" y="2526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"/>
          <p:cNvSpPr/>
          <p:nvPr/>
        </p:nvSpPr>
        <p:spPr>
          <a:xfrm rot="2520000">
            <a:off x="5457600" y="17841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"/>
          <p:cNvSpPr/>
          <p:nvPr/>
        </p:nvSpPr>
        <p:spPr>
          <a:xfrm rot="840000">
            <a:off x="4764240" y="13536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f3"/>
                </a:solidFill>
                <a:latin typeface="Wingdings"/>
                <a:ea typeface="Wing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"/>
          <p:cNvSpPr/>
          <p:nvPr/>
        </p:nvSpPr>
        <p:spPr>
          <a:xfrm>
            <a:off x="4951080" y="104760"/>
            <a:ext cx="473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จุดตั้งต้น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จุดเมษ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)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ของจักรราศีเคลื่อนที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สายนะ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"/>
          <p:cNvSpPr/>
          <p:nvPr/>
        </p:nvSpPr>
        <p:spPr>
          <a:xfrm>
            <a:off x="-651240" y="82440"/>
            <a:ext cx="4183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จุดตั้งต้นของจักรราศีแบบอยู่กับที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นิรายนะ</a:t>
            </a: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3" name=""/>
          <p:cNvSpPr/>
          <p:nvPr/>
        </p:nvSpPr>
        <p:spPr>
          <a:xfrm>
            <a:off x="2592360" y="53028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8520" y="368280"/>
            <a:ext cx="90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646440" y="442800"/>
            <a:ext cx="83808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"/>
          <p:cNvSpPr/>
          <p:nvPr/>
        </p:nvSpPr>
        <p:spPr>
          <a:xfrm rot="21060000">
            <a:off x="3335040" y="124920"/>
            <a:ext cx="120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ยนางศ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67320" y="2717640"/>
            <a:ext cx="2049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วงนอก </a:t>
            </a: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สีแดง</a:t>
            </a: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จักรราศีอยู่กับที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fc0128"/>
                </a:solidFill>
                <a:latin typeface="Angsana New"/>
                <a:cs typeface="AngsanaUPC"/>
              </a:rPr>
              <a:t>นิรายนะ</a:t>
            </a:r>
            <a:r>
              <a:rPr b="0" lang="en-US" sz="2400" spc="-1" strike="noStrike">
                <a:solidFill>
                  <a:srgbClr val="fc0128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7007400" y="2627280"/>
            <a:ext cx="2139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วงใน 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สีน้ำเงิน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จักรราศีเคลื่อนที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(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  <a:cs typeface="AngsanaUPC"/>
              </a:rPr>
              <a:t>สายนะ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>
            <a:off x="4457520" y="3449520"/>
            <a:ext cx="63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e00"/>
                </a:solidFill>
                <a:latin typeface="Times New Roman"/>
                <a:cs typeface="AngsanaUPC"/>
              </a:rPr>
              <a:t>โล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88840" y="565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ภาพแสดงจักรราศีนิรายนะและสายนะ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5840" y="3870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เหตุที่ยูเรเนียนใช้จุดวิษุวัตตามระบบสายนะ</a:t>
            </a:r>
            <a:endParaRPr b="0" lang="en-US" sz="5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1000" y="198108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5499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114ffb"/>
                </a:solidFill>
                <a:latin typeface="Angsana New"/>
              </a:rPr>
              <a:t>มีจุดที่แน่นอนบนท้องฟ้า </a:t>
            </a:r>
            <a:r>
              <a:rPr b="0" lang="en-US" sz="3300" spc="-1" strike="noStrike">
                <a:solidFill>
                  <a:srgbClr val="114ffb"/>
                </a:solidFill>
                <a:latin typeface="Angsana New"/>
              </a:rPr>
              <a:t>(</a:t>
            </a:r>
            <a:r>
              <a:rPr b="0" lang="hi-IN" sz="3300" spc="-1" strike="noStrike">
                <a:solidFill>
                  <a:srgbClr val="114ffb"/>
                </a:solidFill>
                <a:latin typeface="Angsana New"/>
              </a:rPr>
              <a:t>จุดตัดระหว่างศูนย์สูตรฟ้ากับระวิมรรค</a:t>
            </a:r>
            <a:r>
              <a:rPr b="0" lang="en-US" sz="3300" spc="-1" strike="noStrike">
                <a:solidFill>
                  <a:srgbClr val="114ffb"/>
                </a:solidFill>
                <a:latin typeface="Angsana New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5499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114ffb"/>
                </a:solidFill>
                <a:latin typeface="Angsana New"/>
              </a:rPr>
              <a:t>เมื่ออาทิตย์โคจรผ่าน  มีปฏิกิริยาจาก ธรรมชาติขานรับ คือ ใบไม้ผล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5499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300" spc="-1" strike="noStrike">
                <a:solidFill>
                  <a:srgbClr val="114ffb"/>
                </a:solidFill>
                <a:latin typeface="Angsana New"/>
              </a:rPr>
              <a:t>มีผลทางด้านความเป็นไปของชีวิตเห็นได้ชัด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280760" y="572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2013120" y="642960"/>
            <a:ext cx="5041800" cy="5027760"/>
          </a:xfrm>
          <a:custGeom>
            <a:avLst/>
            <a:gdLst/>
            <a:ahLst/>
            <a:rect l="l" t="t" r="r" b="b"/>
            <a:pathLst>
              <a:path w="3176" h="3167">
                <a:moveTo>
                  <a:pt x="3175" y="1583"/>
                </a:moveTo>
                <a:lnTo>
                  <a:pt x="3174" y="1547"/>
                </a:lnTo>
                <a:lnTo>
                  <a:pt x="3174" y="1510"/>
                </a:lnTo>
                <a:lnTo>
                  <a:pt x="3171" y="1473"/>
                </a:lnTo>
                <a:lnTo>
                  <a:pt x="3168" y="1437"/>
                </a:lnTo>
                <a:lnTo>
                  <a:pt x="3165" y="1401"/>
                </a:lnTo>
                <a:lnTo>
                  <a:pt x="3159" y="1365"/>
                </a:lnTo>
                <a:lnTo>
                  <a:pt x="3154" y="1329"/>
                </a:lnTo>
                <a:lnTo>
                  <a:pt x="3148" y="1292"/>
                </a:lnTo>
                <a:lnTo>
                  <a:pt x="3141" y="1256"/>
                </a:lnTo>
                <a:lnTo>
                  <a:pt x="3133" y="1221"/>
                </a:lnTo>
                <a:lnTo>
                  <a:pt x="3124" y="1185"/>
                </a:lnTo>
                <a:lnTo>
                  <a:pt x="3114" y="1150"/>
                </a:lnTo>
                <a:lnTo>
                  <a:pt x="3104" y="1115"/>
                </a:lnTo>
                <a:lnTo>
                  <a:pt x="3093" y="1080"/>
                </a:lnTo>
                <a:lnTo>
                  <a:pt x="3081" y="1045"/>
                </a:lnTo>
                <a:lnTo>
                  <a:pt x="3068" y="1011"/>
                </a:lnTo>
                <a:lnTo>
                  <a:pt x="3054" y="977"/>
                </a:lnTo>
                <a:lnTo>
                  <a:pt x="3040" y="943"/>
                </a:lnTo>
                <a:lnTo>
                  <a:pt x="3025" y="910"/>
                </a:lnTo>
                <a:lnTo>
                  <a:pt x="3009" y="878"/>
                </a:lnTo>
                <a:lnTo>
                  <a:pt x="2992" y="845"/>
                </a:lnTo>
                <a:lnTo>
                  <a:pt x="2975" y="813"/>
                </a:lnTo>
                <a:lnTo>
                  <a:pt x="2956" y="781"/>
                </a:lnTo>
                <a:lnTo>
                  <a:pt x="2938" y="750"/>
                </a:lnTo>
                <a:lnTo>
                  <a:pt x="2918" y="719"/>
                </a:lnTo>
                <a:lnTo>
                  <a:pt x="2897" y="689"/>
                </a:lnTo>
                <a:lnTo>
                  <a:pt x="2876" y="659"/>
                </a:lnTo>
                <a:lnTo>
                  <a:pt x="2854" y="629"/>
                </a:lnTo>
                <a:lnTo>
                  <a:pt x="2832" y="600"/>
                </a:lnTo>
                <a:lnTo>
                  <a:pt x="2809" y="572"/>
                </a:lnTo>
                <a:lnTo>
                  <a:pt x="2785" y="544"/>
                </a:lnTo>
                <a:lnTo>
                  <a:pt x="2761" y="516"/>
                </a:lnTo>
                <a:lnTo>
                  <a:pt x="2736" y="490"/>
                </a:lnTo>
                <a:lnTo>
                  <a:pt x="2710" y="464"/>
                </a:lnTo>
                <a:lnTo>
                  <a:pt x="2684" y="438"/>
                </a:lnTo>
                <a:lnTo>
                  <a:pt x="2657" y="413"/>
                </a:lnTo>
                <a:lnTo>
                  <a:pt x="2630" y="389"/>
                </a:lnTo>
                <a:lnTo>
                  <a:pt x="2602" y="365"/>
                </a:lnTo>
                <a:lnTo>
                  <a:pt x="2573" y="342"/>
                </a:lnTo>
                <a:lnTo>
                  <a:pt x="2544" y="320"/>
                </a:lnTo>
                <a:lnTo>
                  <a:pt x="2515" y="298"/>
                </a:lnTo>
                <a:lnTo>
                  <a:pt x="2484" y="277"/>
                </a:lnTo>
                <a:lnTo>
                  <a:pt x="2454" y="257"/>
                </a:lnTo>
                <a:lnTo>
                  <a:pt x="2423" y="237"/>
                </a:lnTo>
                <a:lnTo>
                  <a:pt x="2392" y="218"/>
                </a:lnTo>
                <a:lnTo>
                  <a:pt x="2360" y="200"/>
                </a:lnTo>
                <a:lnTo>
                  <a:pt x="2328" y="183"/>
                </a:lnTo>
                <a:lnTo>
                  <a:pt x="2295" y="166"/>
                </a:lnTo>
                <a:lnTo>
                  <a:pt x="2262" y="150"/>
                </a:lnTo>
                <a:lnTo>
                  <a:pt x="2229" y="135"/>
                </a:lnTo>
                <a:lnTo>
                  <a:pt x="2195" y="121"/>
                </a:lnTo>
                <a:lnTo>
                  <a:pt x="2161" y="107"/>
                </a:lnTo>
                <a:lnTo>
                  <a:pt x="2127" y="94"/>
                </a:lnTo>
                <a:lnTo>
                  <a:pt x="2092" y="82"/>
                </a:lnTo>
                <a:lnTo>
                  <a:pt x="2057" y="71"/>
                </a:lnTo>
                <a:lnTo>
                  <a:pt x="2022" y="60"/>
                </a:lnTo>
                <a:lnTo>
                  <a:pt x="1987" y="51"/>
                </a:lnTo>
                <a:lnTo>
                  <a:pt x="1951" y="42"/>
                </a:lnTo>
                <a:lnTo>
                  <a:pt x="1915" y="34"/>
                </a:lnTo>
                <a:lnTo>
                  <a:pt x="1880" y="27"/>
                </a:lnTo>
                <a:lnTo>
                  <a:pt x="1843" y="21"/>
                </a:lnTo>
                <a:lnTo>
                  <a:pt x="1806" y="15"/>
                </a:lnTo>
                <a:lnTo>
                  <a:pt x="1771" y="11"/>
                </a:lnTo>
                <a:lnTo>
                  <a:pt x="1734" y="7"/>
                </a:lnTo>
                <a:lnTo>
                  <a:pt x="1697" y="4"/>
                </a:lnTo>
                <a:lnTo>
                  <a:pt x="1661" y="2"/>
                </a:lnTo>
                <a:lnTo>
                  <a:pt x="1624" y="1"/>
                </a:lnTo>
                <a:lnTo>
                  <a:pt x="1588" y="0"/>
                </a:lnTo>
                <a:lnTo>
                  <a:pt x="1551" y="1"/>
                </a:lnTo>
                <a:lnTo>
                  <a:pt x="1514" y="2"/>
                </a:lnTo>
                <a:lnTo>
                  <a:pt x="1477" y="4"/>
                </a:lnTo>
                <a:lnTo>
                  <a:pt x="1441" y="7"/>
                </a:lnTo>
                <a:lnTo>
                  <a:pt x="1404" y="11"/>
                </a:lnTo>
                <a:lnTo>
                  <a:pt x="1368" y="15"/>
                </a:lnTo>
                <a:lnTo>
                  <a:pt x="1332" y="21"/>
                </a:lnTo>
                <a:lnTo>
                  <a:pt x="1296" y="27"/>
                </a:lnTo>
                <a:lnTo>
                  <a:pt x="1260" y="34"/>
                </a:lnTo>
                <a:lnTo>
                  <a:pt x="1224" y="42"/>
                </a:lnTo>
                <a:lnTo>
                  <a:pt x="1188" y="51"/>
                </a:lnTo>
                <a:lnTo>
                  <a:pt x="1153" y="60"/>
                </a:lnTo>
                <a:lnTo>
                  <a:pt x="1118" y="71"/>
                </a:lnTo>
                <a:lnTo>
                  <a:pt x="1083" y="82"/>
                </a:lnTo>
                <a:lnTo>
                  <a:pt x="1048" y="94"/>
                </a:lnTo>
                <a:lnTo>
                  <a:pt x="1014" y="107"/>
                </a:lnTo>
                <a:lnTo>
                  <a:pt x="980" y="121"/>
                </a:lnTo>
                <a:lnTo>
                  <a:pt x="946" y="135"/>
                </a:lnTo>
                <a:lnTo>
                  <a:pt x="912" y="150"/>
                </a:lnTo>
                <a:lnTo>
                  <a:pt x="880" y="166"/>
                </a:lnTo>
                <a:lnTo>
                  <a:pt x="847" y="183"/>
                </a:lnTo>
                <a:lnTo>
                  <a:pt x="815" y="200"/>
                </a:lnTo>
                <a:lnTo>
                  <a:pt x="783" y="218"/>
                </a:lnTo>
                <a:lnTo>
                  <a:pt x="751" y="237"/>
                </a:lnTo>
                <a:lnTo>
                  <a:pt x="720" y="257"/>
                </a:lnTo>
                <a:lnTo>
                  <a:pt x="691" y="277"/>
                </a:lnTo>
                <a:lnTo>
                  <a:pt x="660" y="298"/>
                </a:lnTo>
                <a:lnTo>
                  <a:pt x="631" y="320"/>
                </a:lnTo>
                <a:lnTo>
                  <a:pt x="602" y="342"/>
                </a:lnTo>
                <a:lnTo>
                  <a:pt x="573" y="365"/>
                </a:lnTo>
                <a:lnTo>
                  <a:pt x="545" y="389"/>
                </a:lnTo>
                <a:lnTo>
                  <a:pt x="518" y="413"/>
                </a:lnTo>
                <a:lnTo>
                  <a:pt x="491" y="438"/>
                </a:lnTo>
                <a:lnTo>
                  <a:pt x="464" y="464"/>
                </a:lnTo>
                <a:lnTo>
                  <a:pt x="439" y="490"/>
                </a:lnTo>
                <a:lnTo>
                  <a:pt x="414" y="516"/>
                </a:lnTo>
                <a:lnTo>
                  <a:pt x="390" y="544"/>
                </a:lnTo>
                <a:lnTo>
                  <a:pt x="366" y="572"/>
                </a:lnTo>
                <a:lnTo>
                  <a:pt x="343" y="600"/>
                </a:lnTo>
                <a:lnTo>
                  <a:pt x="320" y="629"/>
                </a:lnTo>
                <a:lnTo>
                  <a:pt x="299" y="659"/>
                </a:lnTo>
                <a:lnTo>
                  <a:pt x="277" y="689"/>
                </a:lnTo>
                <a:lnTo>
                  <a:pt x="257" y="719"/>
                </a:lnTo>
                <a:lnTo>
                  <a:pt x="237" y="750"/>
                </a:lnTo>
                <a:lnTo>
                  <a:pt x="219" y="781"/>
                </a:lnTo>
                <a:lnTo>
                  <a:pt x="200" y="813"/>
                </a:lnTo>
                <a:lnTo>
                  <a:pt x="183" y="845"/>
                </a:lnTo>
                <a:lnTo>
                  <a:pt x="166" y="878"/>
                </a:lnTo>
                <a:lnTo>
                  <a:pt x="150" y="910"/>
                </a:lnTo>
                <a:lnTo>
                  <a:pt x="135" y="943"/>
                </a:lnTo>
                <a:lnTo>
                  <a:pt x="121" y="977"/>
                </a:lnTo>
                <a:lnTo>
                  <a:pt x="107" y="1011"/>
                </a:lnTo>
                <a:lnTo>
                  <a:pt x="95" y="1045"/>
                </a:lnTo>
                <a:lnTo>
                  <a:pt x="82" y="1080"/>
                </a:lnTo>
                <a:lnTo>
                  <a:pt x="71" y="1115"/>
                </a:lnTo>
                <a:lnTo>
                  <a:pt x="61" y="1150"/>
                </a:lnTo>
                <a:lnTo>
                  <a:pt x="50" y="1185"/>
                </a:lnTo>
                <a:lnTo>
                  <a:pt x="42" y="1221"/>
                </a:lnTo>
                <a:lnTo>
                  <a:pt x="34" y="1256"/>
                </a:lnTo>
                <a:lnTo>
                  <a:pt x="27" y="1292"/>
                </a:lnTo>
                <a:lnTo>
                  <a:pt x="21" y="1329"/>
                </a:lnTo>
                <a:lnTo>
                  <a:pt x="15" y="1365"/>
                </a:lnTo>
                <a:lnTo>
                  <a:pt x="10" y="1401"/>
                </a:lnTo>
                <a:lnTo>
                  <a:pt x="7" y="1437"/>
                </a:lnTo>
                <a:lnTo>
                  <a:pt x="4" y="1473"/>
                </a:lnTo>
                <a:lnTo>
                  <a:pt x="1" y="1510"/>
                </a:lnTo>
                <a:lnTo>
                  <a:pt x="0" y="1547"/>
                </a:lnTo>
                <a:lnTo>
                  <a:pt x="0" y="1583"/>
                </a:lnTo>
                <a:lnTo>
                  <a:pt x="0" y="1620"/>
                </a:lnTo>
                <a:lnTo>
                  <a:pt x="1" y="1656"/>
                </a:lnTo>
                <a:lnTo>
                  <a:pt x="4" y="1693"/>
                </a:lnTo>
                <a:lnTo>
                  <a:pt x="7" y="1729"/>
                </a:lnTo>
                <a:lnTo>
                  <a:pt x="10" y="1766"/>
                </a:lnTo>
                <a:lnTo>
                  <a:pt x="15" y="1802"/>
                </a:lnTo>
                <a:lnTo>
                  <a:pt x="21" y="1838"/>
                </a:lnTo>
                <a:lnTo>
                  <a:pt x="27" y="1874"/>
                </a:lnTo>
                <a:lnTo>
                  <a:pt x="34" y="1910"/>
                </a:lnTo>
                <a:lnTo>
                  <a:pt x="42" y="1945"/>
                </a:lnTo>
                <a:lnTo>
                  <a:pt x="50" y="1981"/>
                </a:lnTo>
                <a:lnTo>
                  <a:pt x="61" y="2017"/>
                </a:lnTo>
                <a:lnTo>
                  <a:pt x="71" y="2051"/>
                </a:lnTo>
                <a:lnTo>
                  <a:pt x="82" y="2086"/>
                </a:lnTo>
                <a:lnTo>
                  <a:pt x="95" y="2121"/>
                </a:lnTo>
                <a:lnTo>
                  <a:pt x="107" y="2155"/>
                </a:lnTo>
                <a:lnTo>
                  <a:pt x="121" y="2189"/>
                </a:lnTo>
                <a:lnTo>
                  <a:pt x="135" y="2223"/>
                </a:lnTo>
                <a:lnTo>
                  <a:pt x="150" y="2256"/>
                </a:lnTo>
                <a:lnTo>
                  <a:pt x="166" y="2289"/>
                </a:lnTo>
                <a:lnTo>
                  <a:pt x="183" y="2321"/>
                </a:lnTo>
                <a:lnTo>
                  <a:pt x="200" y="2353"/>
                </a:lnTo>
                <a:lnTo>
                  <a:pt x="219" y="2385"/>
                </a:lnTo>
                <a:lnTo>
                  <a:pt x="237" y="2417"/>
                </a:lnTo>
                <a:lnTo>
                  <a:pt x="257" y="2448"/>
                </a:lnTo>
                <a:lnTo>
                  <a:pt x="277" y="2478"/>
                </a:lnTo>
                <a:lnTo>
                  <a:pt x="299" y="2508"/>
                </a:lnTo>
                <a:lnTo>
                  <a:pt x="320" y="2537"/>
                </a:lnTo>
                <a:lnTo>
                  <a:pt x="343" y="2566"/>
                </a:lnTo>
                <a:lnTo>
                  <a:pt x="366" y="2594"/>
                </a:lnTo>
                <a:lnTo>
                  <a:pt x="390" y="2622"/>
                </a:lnTo>
                <a:lnTo>
                  <a:pt x="414" y="2650"/>
                </a:lnTo>
                <a:lnTo>
                  <a:pt x="439" y="2676"/>
                </a:lnTo>
                <a:lnTo>
                  <a:pt x="464" y="2702"/>
                </a:lnTo>
                <a:lnTo>
                  <a:pt x="491" y="2728"/>
                </a:lnTo>
                <a:lnTo>
                  <a:pt x="518" y="2753"/>
                </a:lnTo>
                <a:lnTo>
                  <a:pt x="545" y="2777"/>
                </a:lnTo>
                <a:lnTo>
                  <a:pt x="573" y="2801"/>
                </a:lnTo>
                <a:lnTo>
                  <a:pt x="602" y="2824"/>
                </a:lnTo>
                <a:lnTo>
                  <a:pt x="631" y="2847"/>
                </a:lnTo>
                <a:lnTo>
                  <a:pt x="660" y="2868"/>
                </a:lnTo>
                <a:lnTo>
                  <a:pt x="691" y="2889"/>
                </a:lnTo>
                <a:lnTo>
                  <a:pt x="720" y="2909"/>
                </a:lnTo>
                <a:lnTo>
                  <a:pt x="751" y="2929"/>
                </a:lnTo>
                <a:lnTo>
                  <a:pt x="783" y="2948"/>
                </a:lnTo>
                <a:lnTo>
                  <a:pt x="815" y="2966"/>
                </a:lnTo>
                <a:lnTo>
                  <a:pt x="847" y="2984"/>
                </a:lnTo>
                <a:lnTo>
                  <a:pt x="880" y="3001"/>
                </a:lnTo>
                <a:lnTo>
                  <a:pt x="912" y="3016"/>
                </a:lnTo>
                <a:lnTo>
                  <a:pt x="946" y="3031"/>
                </a:lnTo>
                <a:lnTo>
                  <a:pt x="980" y="3046"/>
                </a:lnTo>
                <a:lnTo>
                  <a:pt x="1014" y="3059"/>
                </a:lnTo>
                <a:lnTo>
                  <a:pt x="1048" y="3072"/>
                </a:lnTo>
                <a:lnTo>
                  <a:pt x="1083" y="3084"/>
                </a:lnTo>
                <a:lnTo>
                  <a:pt x="1118" y="3095"/>
                </a:lnTo>
                <a:lnTo>
                  <a:pt x="1153" y="3106"/>
                </a:lnTo>
                <a:lnTo>
                  <a:pt x="1188" y="3115"/>
                </a:lnTo>
                <a:lnTo>
                  <a:pt x="1224" y="3124"/>
                </a:lnTo>
                <a:lnTo>
                  <a:pt x="1260" y="3132"/>
                </a:lnTo>
                <a:lnTo>
                  <a:pt x="1296" y="3139"/>
                </a:lnTo>
                <a:lnTo>
                  <a:pt x="1332" y="3145"/>
                </a:lnTo>
                <a:lnTo>
                  <a:pt x="1368" y="3151"/>
                </a:lnTo>
                <a:lnTo>
                  <a:pt x="1404" y="3156"/>
                </a:lnTo>
                <a:lnTo>
                  <a:pt x="1441" y="3159"/>
                </a:lnTo>
                <a:lnTo>
                  <a:pt x="1477" y="3162"/>
                </a:lnTo>
                <a:lnTo>
                  <a:pt x="1514" y="3165"/>
                </a:lnTo>
                <a:lnTo>
                  <a:pt x="1551" y="3166"/>
                </a:lnTo>
                <a:lnTo>
                  <a:pt x="1588" y="3166"/>
                </a:lnTo>
                <a:lnTo>
                  <a:pt x="1624" y="3166"/>
                </a:lnTo>
                <a:lnTo>
                  <a:pt x="1661" y="3165"/>
                </a:lnTo>
                <a:lnTo>
                  <a:pt x="1697" y="3162"/>
                </a:lnTo>
                <a:lnTo>
                  <a:pt x="1734" y="3159"/>
                </a:lnTo>
                <a:lnTo>
                  <a:pt x="1771" y="3156"/>
                </a:lnTo>
                <a:lnTo>
                  <a:pt x="1806" y="3151"/>
                </a:lnTo>
                <a:lnTo>
                  <a:pt x="1843" y="3145"/>
                </a:lnTo>
                <a:lnTo>
                  <a:pt x="1880" y="3139"/>
                </a:lnTo>
                <a:lnTo>
                  <a:pt x="1915" y="3132"/>
                </a:lnTo>
                <a:lnTo>
                  <a:pt x="1951" y="3124"/>
                </a:lnTo>
                <a:lnTo>
                  <a:pt x="1987" y="3115"/>
                </a:lnTo>
                <a:lnTo>
                  <a:pt x="2022" y="3106"/>
                </a:lnTo>
                <a:lnTo>
                  <a:pt x="2057" y="3095"/>
                </a:lnTo>
                <a:lnTo>
                  <a:pt x="2092" y="3084"/>
                </a:lnTo>
                <a:lnTo>
                  <a:pt x="2127" y="3072"/>
                </a:lnTo>
                <a:lnTo>
                  <a:pt x="2161" y="3059"/>
                </a:lnTo>
                <a:lnTo>
                  <a:pt x="2195" y="3046"/>
                </a:lnTo>
                <a:lnTo>
                  <a:pt x="2229" y="3031"/>
                </a:lnTo>
                <a:lnTo>
                  <a:pt x="2262" y="3016"/>
                </a:lnTo>
                <a:lnTo>
                  <a:pt x="2295" y="3001"/>
                </a:lnTo>
                <a:lnTo>
                  <a:pt x="2328" y="2984"/>
                </a:lnTo>
                <a:lnTo>
                  <a:pt x="2360" y="2966"/>
                </a:lnTo>
                <a:lnTo>
                  <a:pt x="2392" y="2948"/>
                </a:lnTo>
                <a:lnTo>
                  <a:pt x="2423" y="2929"/>
                </a:lnTo>
                <a:lnTo>
                  <a:pt x="2454" y="2909"/>
                </a:lnTo>
                <a:lnTo>
                  <a:pt x="2484" y="2889"/>
                </a:lnTo>
                <a:lnTo>
                  <a:pt x="2515" y="2868"/>
                </a:lnTo>
                <a:lnTo>
                  <a:pt x="2544" y="2847"/>
                </a:lnTo>
                <a:lnTo>
                  <a:pt x="2573" y="2824"/>
                </a:lnTo>
                <a:lnTo>
                  <a:pt x="2602" y="2801"/>
                </a:lnTo>
                <a:lnTo>
                  <a:pt x="2630" y="2777"/>
                </a:lnTo>
                <a:lnTo>
                  <a:pt x="2657" y="2753"/>
                </a:lnTo>
                <a:lnTo>
                  <a:pt x="2684" y="2728"/>
                </a:lnTo>
                <a:lnTo>
                  <a:pt x="2710" y="2702"/>
                </a:lnTo>
                <a:lnTo>
                  <a:pt x="2736" y="2676"/>
                </a:lnTo>
                <a:lnTo>
                  <a:pt x="2761" y="2650"/>
                </a:lnTo>
                <a:lnTo>
                  <a:pt x="2785" y="2622"/>
                </a:lnTo>
                <a:lnTo>
                  <a:pt x="2809" y="2594"/>
                </a:lnTo>
                <a:lnTo>
                  <a:pt x="2832" y="2566"/>
                </a:lnTo>
                <a:lnTo>
                  <a:pt x="2854" y="2537"/>
                </a:lnTo>
                <a:lnTo>
                  <a:pt x="2876" y="2508"/>
                </a:lnTo>
                <a:lnTo>
                  <a:pt x="2897" y="2478"/>
                </a:lnTo>
                <a:lnTo>
                  <a:pt x="2918" y="2448"/>
                </a:lnTo>
                <a:lnTo>
                  <a:pt x="2938" y="2417"/>
                </a:lnTo>
                <a:lnTo>
                  <a:pt x="2956" y="2385"/>
                </a:lnTo>
                <a:lnTo>
                  <a:pt x="2975" y="2353"/>
                </a:lnTo>
                <a:lnTo>
                  <a:pt x="2992" y="2321"/>
                </a:lnTo>
                <a:lnTo>
                  <a:pt x="3009" y="2289"/>
                </a:lnTo>
                <a:lnTo>
                  <a:pt x="3025" y="2256"/>
                </a:lnTo>
                <a:lnTo>
                  <a:pt x="3040" y="2223"/>
                </a:lnTo>
                <a:lnTo>
                  <a:pt x="3054" y="2189"/>
                </a:lnTo>
                <a:lnTo>
                  <a:pt x="3068" y="2155"/>
                </a:lnTo>
                <a:lnTo>
                  <a:pt x="3081" y="2121"/>
                </a:lnTo>
                <a:lnTo>
                  <a:pt x="3093" y="2086"/>
                </a:lnTo>
                <a:lnTo>
                  <a:pt x="3104" y="2051"/>
                </a:lnTo>
                <a:lnTo>
                  <a:pt x="3114" y="2017"/>
                </a:lnTo>
                <a:lnTo>
                  <a:pt x="3124" y="1981"/>
                </a:lnTo>
                <a:lnTo>
                  <a:pt x="3133" y="1945"/>
                </a:lnTo>
                <a:lnTo>
                  <a:pt x="3141" y="1910"/>
                </a:lnTo>
                <a:lnTo>
                  <a:pt x="3148" y="1874"/>
                </a:lnTo>
                <a:lnTo>
                  <a:pt x="3154" y="1838"/>
                </a:lnTo>
                <a:lnTo>
                  <a:pt x="3159" y="1802"/>
                </a:lnTo>
                <a:lnTo>
                  <a:pt x="3165" y="1766"/>
                </a:lnTo>
                <a:lnTo>
                  <a:pt x="3168" y="1729"/>
                </a:lnTo>
                <a:lnTo>
                  <a:pt x="3171" y="1693"/>
                </a:lnTo>
                <a:lnTo>
                  <a:pt x="3174" y="1656"/>
                </a:lnTo>
                <a:lnTo>
                  <a:pt x="3174" y="1620"/>
                </a:lnTo>
                <a:lnTo>
                  <a:pt x="3175" y="1583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"/>
          <p:cNvSpPr/>
          <p:nvPr/>
        </p:nvSpPr>
        <p:spPr>
          <a:xfrm>
            <a:off x="2687760" y="1300320"/>
            <a:ext cx="3746520" cy="3735360"/>
          </a:xfrm>
          <a:custGeom>
            <a:avLst/>
            <a:gdLst/>
            <a:ahLst/>
            <a:rect l="l" t="t" r="r" b="b"/>
            <a:pathLst>
              <a:path w="2360" h="2353">
                <a:moveTo>
                  <a:pt x="2359" y="1176"/>
                </a:moveTo>
                <a:lnTo>
                  <a:pt x="2359" y="1145"/>
                </a:lnTo>
                <a:lnTo>
                  <a:pt x="2358" y="1113"/>
                </a:lnTo>
                <a:lnTo>
                  <a:pt x="2355" y="1082"/>
                </a:lnTo>
                <a:lnTo>
                  <a:pt x="2352" y="1050"/>
                </a:lnTo>
                <a:lnTo>
                  <a:pt x="2349" y="1019"/>
                </a:lnTo>
                <a:lnTo>
                  <a:pt x="2344" y="987"/>
                </a:lnTo>
                <a:lnTo>
                  <a:pt x="2338" y="957"/>
                </a:lnTo>
                <a:lnTo>
                  <a:pt x="2332" y="926"/>
                </a:lnTo>
                <a:lnTo>
                  <a:pt x="2325" y="895"/>
                </a:lnTo>
                <a:lnTo>
                  <a:pt x="2317" y="865"/>
                </a:lnTo>
                <a:lnTo>
                  <a:pt x="2308" y="834"/>
                </a:lnTo>
                <a:lnTo>
                  <a:pt x="2298" y="804"/>
                </a:lnTo>
                <a:lnTo>
                  <a:pt x="2288" y="774"/>
                </a:lnTo>
                <a:lnTo>
                  <a:pt x="2276" y="744"/>
                </a:lnTo>
                <a:lnTo>
                  <a:pt x="2264" y="715"/>
                </a:lnTo>
                <a:lnTo>
                  <a:pt x="2252" y="686"/>
                </a:lnTo>
                <a:lnTo>
                  <a:pt x="2238" y="658"/>
                </a:lnTo>
                <a:lnTo>
                  <a:pt x="2224" y="629"/>
                </a:lnTo>
                <a:lnTo>
                  <a:pt x="2209" y="602"/>
                </a:lnTo>
                <a:lnTo>
                  <a:pt x="2193" y="575"/>
                </a:lnTo>
                <a:lnTo>
                  <a:pt x="2176" y="547"/>
                </a:lnTo>
                <a:lnTo>
                  <a:pt x="2159" y="522"/>
                </a:lnTo>
                <a:lnTo>
                  <a:pt x="2141" y="495"/>
                </a:lnTo>
                <a:lnTo>
                  <a:pt x="2122" y="470"/>
                </a:lnTo>
                <a:lnTo>
                  <a:pt x="2103" y="445"/>
                </a:lnTo>
                <a:lnTo>
                  <a:pt x="2083" y="421"/>
                </a:lnTo>
                <a:lnTo>
                  <a:pt x="2062" y="396"/>
                </a:lnTo>
                <a:lnTo>
                  <a:pt x="2041" y="373"/>
                </a:lnTo>
                <a:lnTo>
                  <a:pt x="2019" y="350"/>
                </a:lnTo>
                <a:lnTo>
                  <a:pt x="1997" y="328"/>
                </a:lnTo>
                <a:lnTo>
                  <a:pt x="1974" y="307"/>
                </a:lnTo>
                <a:lnTo>
                  <a:pt x="1950" y="286"/>
                </a:lnTo>
                <a:lnTo>
                  <a:pt x="1926" y="265"/>
                </a:lnTo>
                <a:lnTo>
                  <a:pt x="1901" y="246"/>
                </a:lnTo>
                <a:lnTo>
                  <a:pt x="1875" y="226"/>
                </a:lnTo>
                <a:lnTo>
                  <a:pt x="1849" y="209"/>
                </a:lnTo>
                <a:lnTo>
                  <a:pt x="1823" y="190"/>
                </a:lnTo>
                <a:lnTo>
                  <a:pt x="1796" y="174"/>
                </a:lnTo>
                <a:lnTo>
                  <a:pt x="1769" y="158"/>
                </a:lnTo>
                <a:lnTo>
                  <a:pt x="1741" y="142"/>
                </a:lnTo>
                <a:lnTo>
                  <a:pt x="1714" y="128"/>
                </a:lnTo>
                <a:lnTo>
                  <a:pt x="1685" y="114"/>
                </a:lnTo>
                <a:lnTo>
                  <a:pt x="1656" y="100"/>
                </a:lnTo>
                <a:lnTo>
                  <a:pt x="1627" y="89"/>
                </a:lnTo>
                <a:lnTo>
                  <a:pt x="1598" y="77"/>
                </a:lnTo>
                <a:lnTo>
                  <a:pt x="1568" y="66"/>
                </a:lnTo>
                <a:lnTo>
                  <a:pt x="1538" y="56"/>
                </a:lnTo>
                <a:lnTo>
                  <a:pt x="1508" y="46"/>
                </a:lnTo>
                <a:lnTo>
                  <a:pt x="1477" y="38"/>
                </a:lnTo>
                <a:lnTo>
                  <a:pt x="1446" y="31"/>
                </a:lnTo>
                <a:lnTo>
                  <a:pt x="1415" y="24"/>
                </a:lnTo>
                <a:lnTo>
                  <a:pt x="1384" y="18"/>
                </a:lnTo>
                <a:lnTo>
                  <a:pt x="1353" y="13"/>
                </a:lnTo>
                <a:lnTo>
                  <a:pt x="1321" y="9"/>
                </a:lnTo>
                <a:lnTo>
                  <a:pt x="1290" y="5"/>
                </a:lnTo>
                <a:lnTo>
                  <a:pt x="1258" y="3"/>
                </a:lnTo>
                <a:lnTo>
                  <a:pt x="1226" y="1"/>
                </a:lnTo>
                <a:lnTo>
                  <a:pt x="1195" y="0"/>
                </a:lnTo>
                <a:lnTo>
                  <a:pt x="1164" y="0"/>
                </a:lnTo>
                <a:lnTo>
                  <a:pt x="1132" y="1"/>
                </a:lnTo>
                <a:lnTo>
                  <a:pt x="1100" y="3"/>
                </a:lnTo>
                <a:lnTo>
                  <a:pt x="1069" y="5"/>
                </a:lnTo>
                <a:lnTo>
                  <a:pt x="1037" y="9"/>
                </a:lnTo>
                <a:lnTo>
                  <a:pt x="1005" y="13"/>
                </a:lnTo>
                <a:lnTo>
                  <a:pt x="975" y="18"/>
                </a:lnTo>
                <a:lnTo>
                  <a:pt x="943" y="24"/>
                </a:lnTo>
                <a:lnTo>
                  <a:pt x="913" y="31"/>
                </a:lnTo>
                <a:lnTo>
                  <a:pt x="882" y="38"/>
                </a:lnTo>
                <a:lnTo>
                  <a:pt x="851" y="46"/>
                </a:lnTo>
                <a:lnTo>
                  <a:pt x="821" y="56"/>
                </a:lnTo>
                <a:lnTo>
                  <a:pt x="791" y="66"/>
                </a:lnTo>
                <a:lnTo>
                  <a:pt x="761" y="77"/>
                </a:lnTo>
                <a:lnTo>
                  <a:pt x="732" y="89"/>
                </a:lnTo>
                <a:lnTo>
                  <a:pt x="703" y="100"/>
                </a:lnTo>
                <a:lnTo>
                  <a:pt x="674" y="114"/>
                </a:lnTo>
                <a:lnTo>
                  <a:pt x="645" y="128"/>
                </a:lnTo>
                <a:lnTo>
                  <a:pt x="617" y="142"/>
                </a:lnTo>
                <a:lnTo>
                  <a:pt x="590" y="158"/>
                </a:lnTo>
                <a:lnTo>
                  <a:pt x="562" y="174"/>
                </a:lnTo>
                <a:lnTo>
                  <a:pt x="536" y="190"/>
                </a:lnTo>
                <a:lnTo>
                  <a:pt x="510" y="209"/>
                </a:lnTo>
                <a:lnTo>
                  <a:pt x="484" y="226"/>
                </a:lnTo>
                <a:lnTo>
                  <a:pt x="458" y="246"/>
                </a:lnTo>
                <a:lnTo>
                  <a:pt x="433" y="265"/>
                </a:lnTo>
                <a:lnTo>
                  <a:pt x="409" y="286"/>
                </a:lnTo>
                <a:lnTo>
                  <a:pt x="385" y="307"/>
                </a:lnTo>
                <a:lnTo>
                  <a:pt x="362" y="328"/>
                </a:lnTo>
                <a:lnTo>
                  <a:pt x="340" y="350"/>
                </a:lnTo>
                <a:lnTo>
                  <a:pt x="317" y="373"/>
                </a:lnTo>
                <a:lnTo>
                  <a:pt x="297" y="396"/>
                </a:lnTo>
                <a:lnTo>
                  <a:pt x="275" y="421"/>
                </a:lnTo>
                <a:lnTo>
                  <a:pt x="256" y="445"/>
                </a:lnTo>
                <a:lnTo>
                  <a:pt x="237" y="470"/>
                </a:lnTo>
                <a:lnTo>
                  <a:pt x="217" y="495"/>
                </a:lnTo>
                <a:lnTo>
                  <a:pt x="200" y="522"/>
                </a:lnTo>
                <a:lnTo>
                  <a:pt x="182" y="547"/>
                </a:lnTo>
                <a:lnTo>
                  <a:pt x="166" y="575"/>
                </a:lnTo>
                <a:lnTo>
                  <a:pt x="150" y="602"/>
                </a:lnTo>
                <a:lnTo>
                  <a:pt x="135" y="629"/>
                </a:lnTo>
                <a:lnTo>
                  <a:pt x="121" y="658"/>
                </a:lnTo>
                <a:lnTo>
                  <a:pt x="107" y="686"/>
                </a:lnTo>
                <a:lnTo>
                  <a:pt x="94" y="715"/>
                </a:lnTo>
                <a:lnTo>
                  <a:pt x="82" y="744"/>
                </a:lnTo>
                <a:lnTo>
                  <a:pt x="71" y="774"/>
                </a:lnTo>
                <a:lnTo>
                  <a:pt x="61" y="804"/>
                </a:lnTo>
                <a:lnTo>
                  <a:pt x="50" y="834"/>
                </a:lnTo>
                <a:lnTo>
                  <a:pt x="42" y="865"/>
                </a:lnTo>
                <a:lnTo>
                  <a:pt x="34" y="895"/>
                </a:lnTo>
                <a:lnTo>
                  <a:pt x="27" y="926"/>
                </a:lnTo>
                <a:lnTo>
                  <a:pt x="21" y="957"/>
                </a:lnTo>
                <a:lnTo>
                  <a:pt x="15" y="987"/>
                </a:lnTo>
                <a:lnTo>
                  <a:pt x="10" y="1019"/>
                </a:lnTo>
                <a:lnTo>
                  <a:pt x="7" y="1050"/>
                </a:lnTo>
                <a:lnTo>
                  <a:pt x="4" y="1082"/>
                </a:lnTo>
                <a:lnTo>
                  <a:pt x="1" y="1113"/>
                </a:lnTo>
                <a:lnTo>
                  <a:pt x="0" y="1145"/>
                </a:lnTo>
                <a:lnTo>
                  <a:pt x="0" y="1176"/>
                </a:lnTo>
                <a:lnTo>
                  <a:pt x="0" y="1208"/>
                </a:lnTo>
                <a:lnTo>
                  <a:pt x="1" y="1239"/>
                </a:lnTo>
                <a:lnTo>
                  <a:pt x="4" y="1271"/>
                </a:lnTo>
                <a:lnTo>
                  <a:pt x="7" y="1302"/>
                </a:lnTo>
                <a:lnTo>
                  <a:pt x="10" y="1334"/>
                </a:lnTo>
                <a:lnTo>
                  <a:pt x="15" y="1365"/>
                </a:lnTo>
                <a:lnTo>
                  <a:pt x="21" y="1396"/>
                </a:lnTo>
                <a:lnTo>
                  <a:pt x="27" y="1427"/>
                </a:lnTo>
                <a:lnTo>
                  <a:pt x="34" y="1458"/>
                </a:lnTo>
                <a:lnTo>
                  <a:pt x="42" y="1488"/>
                </a:lnTo>
                <a:lnTo>
                  <a:pt x="50" y="1518"/>
                </a:lnTo>
                <a:lnTo>
                  <a:pt x="61" y="1549"/>
                </a:lnTo>
                <a:lnTo>
                  <a:pt x="71" y="1578"/>
                </a:lnTo>
                <a:lnTo>
                  <a:pt x="82" y="1608"/>
                </a:lnTo>
                <a:lnTo>
                  <a:pt x="94" y="1637"/>
                </a:lnTo>
                <a:lnTo>
                  <a:pt x="107" y="1667"/>
                </a:lnTo>
                <a:lnTo>
                  <a:pt x="121" y="1695"/>
                </a:lnTo>
                <a:lnTo>
                  <a:pt x="135" y="1723"/>
                </a:lnTo>
                <a:lnTo>
                  <a:pt x="150" y="1751"/>
                </a:lnTo>
                <a:lnTo>
                  <a:pt x="166" y="1778"/>
                </a:lnTo>
                <a:lnTo>
                  <a:pt x="182" y="1805"/>
                </a:lnTo>
                <a:lnTo>
                  <a:pt x="200" y="1831"/>
                </a:lnTo>
                <a:lnTo>
                  <a:pt x="217" y="1858"/>
                </a:lnTo>
                <a:lnTo>
                  <a:pt x="237" y="1883"/>
                </a:lnTo>
                <a:lnTo>
                  <a:pt x="256" y="1908"/>
                </a:lnTo>
                <a:lnTo>
                  <a:pt x="275" y="1932"/>
                </a:lnTo>
                <a:lnTo>
                  <a:pt x="297" y="1956"/>
                </a:lnTo>
                <a:lnTo>
                  <a:pt x="317" y="1979"/>
                </a:lnTo>
                <a:lnTo>
                  <a:pt x="340" y="2002"/>
                </a:lnTo>
                <a:lnTo>
                  <a:pt x="362" y="2024"/>
                </a:lnTo>
                <a:lnTo>
                  <a:pt x="385" y="2046"/>
                </a:lnTo>
                <a:lnTo>
                  <a:pt x="409" y="2066"/>
                </a:lnTo>
                <a:lnTo>
                  <a:pt x="433" y="2087"/>
                </a:lnTo>
                <a:lnTo>
                  <a:pt x="458" y="2107"/>
                </a:lnTo>
                <a:lnTo>
                  <a:pt x="484" y="2126"/>
                </a:lnTo>
                <a:lnTo>
                  <a:pt x="510" y="2144"/>
                </a:lnTo>
                <a:lnTo>
                  <a:pt x="536" y="2162"/>
                </a:lnTo>
                <a:lnTo>
                  <a:pt x="562" y="2179"/>
                </a:lnTo>
                <a:lnTo>
                  <a:pt x="590" y="2195"/>
                </a:lnTo>
                <a:lnTo>
                  <a:pt x="617" y="2210"/>
                </a:lnTo>
                <a:lnTo>
                  <a:pt x="645" y="2225"/>
                </a:lnTo>
                <a:lnTo>
                  <a:pt x="674" y="2239"/>
                </a:lnTo>
                <a:lnTo>
                  <a:pt x="703" y="2252"/>
                </a:lnTo>
                <a:lnTo>
                  <a:pt x="732" y="2264"/>
                </a:lnTo>
                <a:lnTo>
                  <a:pt x="761" y="2276"/>
                </a:lnTo>
                <a:lnTo>
                  <a:pt x="791" y="2286"/>
                </a:lnTo>
                <a:lnTo>
                  <a:pt x="821" y="2297"/>
                </a:lnTo>
                <a:lnTo>
                  <a:pt x="851" y="2306"/>
                </a:lnTo>
                <a:lnTo>
                  <a:pt x="882" y="2314"/>
                </a:lnTo>
                <a:lnTo>
                  <a:pt x="913" y="2322"/>
                </a:lnTo>
                <a:lnTo>
                  <a:pt x="943" y="2328"/>
                </a:lnTo>
                <a:lnTo>
                  <a:pt x="975" y="2334"/>
                </a:lnTo>
                <a:lnTo>
                  <a:pt x="1005" y="2339"/>
                </a:lnTo>
                <a:lnTo>
                  <a:pt x="1037" y="2344"/>
                </a:lnTo>
                <a:lnTo>
                  <a:pt x="1069" y="2347"/>
                </a:lnTo>
                <a:lnTo>
                  <a:pt x="1100" y="2350"/>
                </a:lnTo>
                <a:lnTo>
                  <a:pt x="1132" y="2351"/>
                </a:lnTo>
                <a:lnTo>
                  <a:pt x="1164" y="2352"/>
                </a:lnTo>
                <a:lnTo>
                  <a:pt x="1195" y="2352"/>
                </a:lnTo>
                <a:lnTo>
                  <a:pt x="1226" y="2351"/>
                </a:lnTo>
                <a:lnTo>
                  <a:pt x="1258" y="2350"/>
                </a:lnTo>
                <a:lnTo>
                  <a:pt x="1290" y="2347"/>
                </a:lnTo>
                <a:lnTo>
                  <a:pt x="1321" y="2344"/>
                </a:lnTo>
                <a:lnTo>
                  <a:pt x="1353" y="2339"/>
                </a:lnTo>
                <a:lnTo>
                  <a:pt x="1384" y="2334"/>
                </a:lnTo>
                <a:lnTo>
                  <a:pt x="1415" y="2328"/>
                </a:lnTo>
                <a:lnTo>
                  <a:pt x="1446" y="2322"/>
                </a:lnTo>
                <a:lnTo>
                  <a:pt x="1477" y="2314"/>
                </a:lnTo>
                <a:lnTo>
                  <a:pt x="1508" y="2306"/>
                </a:lnTo>
                <a:lnTo>
                  <a:pt x="1538" y="2297"/>
                </a:lnTo>
                <a:lnTo>
                  <a:pt x="1568" y="2286"/>
                </a:lnTo>
                <a:lnTo>
                  <a:pt x="1598" y="2276"/>
                </a:lnTo>
                <a:lnTo>
                  <a:pt x="1627" y="2264"/>
                </a:lnTo>
                <a:lnTo>
                  <a:pt x="1656" y="2252"/>
                </a:lnTo>
                <a:lnTo>
                  <a:pt x="1685" y="2239"/>
                </a:lnTo>
                <a:lnTo>
                  <a:pt x="1714" y="2225"/>
                </a:lnTo>
                <a:lnTo>
                  <a:pt x="1741" y="2210"/>
                </a:lnTo>
                <a:lnTo>
                  <a:pt x="1769" y="2195"/>
                </a:lnTo>
                <a:lnTo>
                  <a:pt x="1796" y="2179"/>
                </a:lnTo>
                <a:lnTo>
                  <a:pt x="1823" y="2162"/>
                </a:lnTo>
                <a:lnTo>
                  <a:pt x="1849" y="2144"/>
                </a:lnTo>
                <a:lnTo>
                  <a:pt x="1875" y="2126"/>
                </a:lnTo>
                <a:lnTo>
                  <a:pt x="1901" y="2107"/>
                </a:lnTo>
                <a:lnTo>
                  <a:pt x="1926" y="2087"/>
                </a:lnTo>
                <a:lnTo>
                  <a:pt x="1950" y="2066"/>
                </a:lnTo>
                <a:lnTo>
                  <a:pt x="1974" y="2046"/>
                </a:lnTo>
                <a:lnTo>
                  <a:pt x="1997" y="2024"/>
                </a:lnTo>
                <a:lnTo>
                  <a:pt x="2019" y="2002"/>
                </a:lnTo>
                <a:lnTo>
                  <a:pt x="2041" y="1979"/>
                </a:lnTo>
                <a:lnTo>
                  <a:pt x="2062" y="1956"/>
                </a:lnTo>
                <a:lnTo>
                  <a:pt x="2083" y="1932"/>
                </a:lnTo>
                <a:lnTo>
                  <a:pt x="2103" y="1908"/>
                </a:lnTo>
                <a:lnTo>
                  <a:pt x="2122" y="1883"/>
                </a:lnTo>
                <a:lnTo>
                  <a:pt x="2141" y="1858"/>
                </a:lnTo>
                <a:lnTo>
                  <a:pt x="2159" y="1831"/>
                </a:lnTo>
                <a:lnTo>
                  <a:pt x="2176" y="1805"/>
                </a:lnTo>
                <a:lnTo>
                  <a:pt x="2193" y="1778"/>
                </a:lnTo>
                <a:lnTo>
                  <a:pt x="2209" y="1751"/>
                </a:lnTo>
                <a:lnTo>
                  <a:pt x="2224" y="1723"/>
                </a:lnTo>
                <a:lnTo>
                  <a:pt x="2238" y="1695"/>
                </a:lnTo>
                <a:lnTo>
                  <a:pt x="2252" y="1667"/>
                </a:lnTo>
                <a:lnTo>
                  <a:pt x="2264" y="1637"/>
                </a:lnTo>
                <a:lnTo>
                  <a:pt x="2276" y="1608"/>
                </a:lnTo>
                <a:lnTo>
                  <a:pt x="2288" y="1578"/>
                </a:lnTo>
                <a:lnTo>
                  <a:pt x="2298" y="1549"/>
                </a:lnTo>
                <a:lnTo>
                  <a:pt x="2308" y="1518"/>
                </a:lnTo>
                <a:lnTo>
                  <a:pt x="2317" y="1488"/>
                </a:lnTo>
                <a:lnTo>
                  <a:pt x="2325" y="1458"/>
                </a:lnTo>
                <a:lnTo>
                  <a:pt x="2332" y="1427"/>
                </a:lnTo>
                <a:lnTo>
                  <a:pt x="2338" y="1396"/>
                </a:lnTo>
                <a:lnTo>
                  <a:pt x="2344" y="1365"/>
                </a:lnTo>
                <a:lnTo>
                  <a:pt x="2349" y="1334"/>
                </a:lnTo>
                <a:lnTo>
                  <a:pt x="2352" y="1302"/>
                </a:lnTo>
                <a:lnTo>
                  <a:pt x="2355" y="1271"/>
                </a:lnTo>
                <a:lnTo>
                  <a:pt x="2358" y="1239"/>
                </a:lnTo>
                <a:lnTo>
                  <a:pt x="2359" y="1208"/>
                </a:lnTo>
                <a:lnTo>
                  <a:pt x="2359" y="117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"/>
          <p:cNvSpPr/>
          <p:nvPr/>
        </p:nvSpPr>
        <p:spPr>
          <a:xfrm>
            <a:off x="4591080" y="1293840"/>
            <a:ext cx="0" cy="3741840"/>
          </a:xfrm>
          <a:prstGeom prst="line">
            <a:avLst/>
          </a:prstGeom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3632040" y="1552680"/>
            <a:ext cx="1860840" cy="3259080"/>
          </a:xfrm>
          <a:prstGeom prst="line">
            <a:avLst/>
          </a:prstGeom>
          <a:ln w="12600">
            <a:solidFill>
              <a:srgbClr val="8901f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2928960" y="2236680"/>
            <a:ext cx="3252600" cy="1854360"/>
          </a:xfrm>
          <a:prstGeom prst="line">
            <a:avLst/>
          </a:prstGeom>
          <a:ln w="12600">
            <a:solidFill>
              <a:srgbClr val="8901f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"/>
          <p:cNvSpPr/>
          <p:nvPr/>
        </p:nvSpPr>
        <p:spPr>
          <a:xfrm>
            <a:off x="2687760" y="3191040"/>
            <a:ext cx="3733560" cy="0"/>
          </a:xfrm>
          <a:prstGeom prst="line">
            <a:avLst/>
          </a:prstGeom>
          <a:ln w="1260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28960" y="2241360"/>
            <a:ext cx="3252600" cy="1879560"/>
          </a:xfrm>
          <a:prstGeom prst="line">
            <a:avLst/>
          </a:prstGeom>
          <a:ln w="12600">
            <a:solidFill>
              <a:srgbClr val="8901f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632040" y="1539720"/>
            <a:ext cx="1845000" cy="3251520"/>
          </a:xfrm>
          <a:prstGeom prst="line">
            <a:avLst/>
          </a:prstGeom>
          <a:ln w="12600">
            <a:solidFill>
              <a:srgbClr val="8901f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4278240" y="2890800"/>
            <a:ext cx="604800" cy="601560"/>
          </a:xfrm>
          <a:custGeom>
            <a:avLst/>
            <a:gdLst/>
            <a:ahLst/>
            <a:rect l="l" t="t" r="r" b="b"/>
            <a:pathLst>
              <a:path w="381" h="379">
                <a:moveTo>
                  <a:pt x="380" y="189"/>
                </a:moveTo>
                <a:lnTo>
                  <a:pt x="379" y="176"/>
                </a:lnTo>
                <a:lnTo>
                  <a:pt x="378" y="164"/>
                </a:lnTo>
                <a:lnTo>
                  <a:pt x="376" y="151"/>
                </a:lnTo>
                <a:lnTo>
                  <a:pt x="373" y="139"/>
                </a:lnTo>
                <a:lnTo>
                  <a:pt x="369" y="127"/>
                </a:lnTo>
                <a:lnTo>
                  <a:pt x="365" y="115"/>
                </a:lnTo>
                <a:lnTo>
                  <a:pt x="359" y="104"/>
                </a:lnTo>
                <a:lnTo>
                  <a:pt x="353" y="93"/>
                </a:lnTo>
                <a:lnTo>
                  <a:pt x="347" y="82"/>
                </a:lnTo>
                <a:lnTo>
                  <a:pt x="339" y="72"/>
                </a:lnTo>
                <a:lnTo>
                  <a:pt x="330" y="62"/>
                </a:lnTo>
                <a:lnTo>
                  <a:pt x="322" y="53"/>
                </a:lnTo>
                <a:lnTo>
                  <a:pt x="312" y="44"/>
                </a:lnTo>
                <a:lnTo>
                  <a:pt x="302" y="37"/>
                </a:lnTo>
                <a:lnTo>
                  <a:pt x="292" y="29"/>
                </a:lnTo>
                <a:lnTo>
                  <a:pt x="282" y="24"/>
                </a:lnTo>
                <a:lnTo>
                  <a:pt x="270" y="18"/>
                </a:lnTo>
                <a:lnTo>
                  <a:pt x="258" y="13"/>
                </a:lnTo>
                <a:lnTo>
                  <a:pt x="246" y="9"/>
                </a:lnTo>
                <a:lnTo>
                  <a:pt x="234" y="5"/>
                </a:lnTo>
                <a:lnTo>
                  <a:pt x="222" y="3"/>
                </a:lnTo>
                <a:lnTo>
                  <a:pt x="208" y="1"/>
                </a:lnTo>
                <a:lnTo>
                  <a:pt x="196" y="0"/>
                </a:lnTo>
                <a:lnTo>
                  <a:pt x="183" y="0"/>
                </a:lnTo>
                <a:lnTo>
                  <a:pt x="171" y="1"/>
                </a:lnTo>
                <a:lnTo>
                  <a:pt x="158" y="3"/>
                </a:lnTo>
                <a:lnTo>
                  <a:pt x="146" y="5"/>
                </a:lnTo>
                <a:lnTo>
                  <a:pt x="134" y="9"/>
                </a:lnTo>
                <a:lnTo>
                  <a:pt x="121" y="13"/>
                </a:lnTo>
                <a:lnTo>
                  <a:pt x="110" y="18"/>
                </a:lnTo>
                <a:lnTo>
                  <a:pt x="98" y="24"/>
                </a:lnTo>
                <a:lnTo>
                  <a:pt x="87" y="29"/>
                </a:lnTo>
                <a:lnTo>
                  <a:pt x="78" y="37"/>
                </a:lnTo>
                <a:lnTo>
                  <a:pt x="67" y="44"/>
                </a:lnTo>
                <a:lnTo>
                  <a:pt x="58" y="53"/>
                </a:lnTo>
                <a:lnTo>
                  <a:pt x="49" y="62"/>
                </a:lnTo>
                <a:lnTo>
                  <a:pt x="41" y="72"/>
                </a:lnTo>
                <a:lnTo>
                  <a:pt x="33" y="82"/>
                </a:lnTo>
                <a:lnTo>
                  <a:pt x="27" y="93"/>
                </a:lnTo>
                <a:lnTo>
                  <a:pt x="21" y="104"/>
                </a:lnTo>
                <a:lnTo>
                  <a:pt x="15" y="115"/>
                </a:lnTo>
                <a:lnTo>
                  <a:pt x="10" y="127"/>
                </a:lnTo>
                <a:lnTo>
                  <a:pt x="7" y="139"/>
                </a:lnTo>
                <a:lnTo>
                  <a:pt x="4" y="151"/>
                </a:lnTo>
                <a:lnTo>
                  <a:pt x="1" y="164"/>
                </a:lnTo>
                <a:lnTo>
                  <a:pt x="1" y="176"/>
                </a:lnTo>
                <a:lnTo>
                  <a:pt x="0" y="189"/>
                </a:lnTo>
                <a:lnTo>
                  <a:pt x="1" y="202"/>
                </a:lnTo>
                <a:lnTo>
                  <a:pt x="1" y="214"/>
                </a:lnTo>
                <a:lnTo>
                  <a:pt x="4" y="227"/>
                </a:lnTo>
                <a:lnTo>
                  <a:pt x="7" y="239"/>
                </a:lnTo>
                <a:lnTo>
                  <a:pt x="10" y="251"/>
                </a:lnTo>
                <a:lnTo>
                  <a:pt x="15" y="263"/>
                </a:lnTo>
                <a:lnTo>
                  <a:pt x="21" y="274"/>
                </a:lnTo>
                <a:lnTo>
                  <a:pt x="27" y="286"/>
                </a:lnTo>
                <a:lnTo>
                  <a:pt x="33" y="296"/>
                </a:lnTo>
                <a:lnTo>
                  <a:pt x="41" y="307"/>
                </a:lnTo>
                <a:lnTo>
                  <a:pt x="49" y="316"/>
                </a:lnTo>
                <a:lnTo>
                  <a:pt x="58" y="325"/>
                </a:lnTo>
                <a:lnTo>
                  <a:pt x="67" y="333"/>
                </a:lnTo>
                <a:lnTo>
                  <a:pt x="78" y="341"/>
                </a:lnTo>
                <a:lnTo>
                  <a:pt x="87" y="349"/>
                </a:lnTo>
                <a:lnTo>
                  <a:pt x="98" y="355"/>
                </a:lnTo>
                <a:lnTo>
                  <a:pt x="110" y="361"/>
                </a:lnTo>
                <a:lnTo>
                  <a:pt x="121" y="365"/>
                </a:lnTo>
                <a:lnTo>
                  <a:pt x="134" y="370"/>
                </a:lnTo>
                <a:lnTo>
                  <a:pt x="146" y="373"/>
                </a:lnTo>
                <a:lnTo>
                  <a:pt x="158" y="376"/>
                </a:lnTo>
                <a:lnTo>
                  <a:pt x="171" y="377"/>
                </a:lnTo>
                <a:lnTo>
                  <a:pt x="183" y="378"/>
                </a:lnTo>
                <a:lnTo>
                  <a:pt x="196" y="378"/>
                </a:lnTo>
                <a:lnTo>
                  <a:pt x="208" y="377"/>
                </a:lnTo>
                <a:lnTo>
                  <a:pt x="222" y="376"/>
                </a:lnTo>
                <a:lnTo>
                  <a:pt x="234" y="373"/>
                </a:lnTo>
                <a:lnTo>
                  <a:pt x="246" y="370"/>
                </a:lnTo>
                <a:lnTo>
                  <a:pt x="258" y="365"/>
                </a:lnTo>
                <a:lnTo>
                  <a:pt x="270" y="361"/>
                </a:lnTo>
                <a:lnTo>
                  <a:pt x="282" y="355"/>
                </a:lnTo>
                <a:lnTo>
                  <a:pt x="292" y="349"/>
                </a:lnTo>
                <a:lnTo>
                  <a:pt x="302" y="341"/>
                </a:lnTo>
                <a:lnTo>
                  <a:pt x="312" y="333"/>
                </a:lnTo>
                <a:lnTo>
                  <a:pt x="322" y="325"/>
                </a:lnTo>
                <a:lnTo>
                  <a:pt x="330" y="316"/>
                </a:lnTo>
                <a:lnTo>
                  <a:pt x="339" y="307"/>
                </a:lnTo>
                <a:lnTo>
                  <a:pt x="347" y="296"/>
                </a:lnTo>
                <a:lnTo>
                  <a:pt x="353" y="286"/>
                </a:lnTo>
                <a:lnTo>
                  <a:pt x="359" y="274"/>
                </a:lnTo>
                <a:lnTo>
                  <a:pt x="365" y="263"/>
                </a:lnTo>
                <a:lnTo>
                  <a:pt x="369" y="251"/>
                </a:lnTo>
                <a:lnTo>
                  <a:pt x="373" y="239"/>
                </a:lnTo>
                <a:lnTo>
                  <a:pt x="376" y="227"/>
                </a:lnTo>
                <a:lnTo>
                  <a:pt x="378" y="214"/>
                </a:lnTo>
                <a:lnTo>
                  <a:pt x="379" y="202"/>
                </a:lnTo>
                <a:lnTo>
                  <a:pt x="380" y="189"/>
                </a:lnTo>
              </a:path>
            </a:pathLst>
          </a:custGeom>
          <a:noFill/>
          <a:ln cap="rnd" w="1260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194520" y="1930320"/>
            <a:ext cx="534960" cy="324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505480" y="990360"/>
            <a:ext cx="297000" cy="561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6210360" y="4103640"/>
            <a:ext cx="519120" cy="277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"/>
          <p:cNvSpPr/>
          <p:nvPr/>
        </p:nvSpPr>
        <p:spPr>
          <a:xfrm>
            <a:off x="5522760" y="4840200"/>
            <a:ext cx="279720" cy="5032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276360" y="4824360"/>
            <a:ext cx="339480" cy="534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6640" y="4140360"/>
            <a:ext cx="561960" cy="3124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276360" y="937800"/>
            <a:ext cx="355320" cy="614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2331720" y="1881000"/>
            <a:ext cx="579240" cy="3380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"/>
          <p:cNvSpPr/>
          <p:nvPr/>
        </p:nvSpPr>
        <p:spPr>
          <a:xfrm>
            <a:off x="6434280" y="3191040"/>
            <a:ext cx="6048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06640" y="3191040"/>
            <a:ext cx="6811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91080" y="627120"/>
            <a:ext cx="0" cy="666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"/>
          <p:cNvSpPr/>
          <p:nvPr/>
        </p:nvSpPr>
        <p:spPr>
          <a:xfrm>
            <a:off x="4591080" y="5064120"/>
            <a:ext cx="0" cy="604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"/>
          <p:cNvSpPr/>
          <p:nvPr/>
        </p:nvSpPr>
        <p:spPr>
          <a:xfrm>
            <a:off x="3753720" y="7873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"/>
          <p:cNvSpPr/>
          <p:nvPr/>
        </p:nvSpPr>
        <p:spPr>
          <a:xfrm>
            <a:off x="2720160" y="13748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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>
            <a:off x="2151720" y="23288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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"/>
          <p:cNvSpPr/>
          <p:nvPr/>
        </p:nvSpPr>
        <p:spPr>
          <a:xfrm>
            <a:off x="2205720" y="35053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>
            <a:off x="2821680" y="4497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>
            <a:off x="3772440" y="50436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>
            <a:off x="4888440" y="50227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5758560" y="45165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6408000" y="3462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6428520" y="24494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>
            <a:off x="5901480" y="14367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>
            <a:off x="4928400" y="7682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451240" y="5818320"/>
            <a:ext cx="4263840" cy="766800"/>
            <a:chOff x="2451240" y="5818320"/>
            <a:chExt cx="4263840" cy="766800"/>
          </a:xfrm>
        </p:grpSpPr>
        <p:sp>
          <p:nvSpPr>
            <p:cNvPr id="298" name=""/>
            <p:cNvSpPr/>
            <p:nvPr/>
          </p:nvSpPr>
          <p:spPr>
            <a:xfrm>
              <a:off x="2451240" y="5888160"/>
              <a:ext cx="4263840" cy="696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114ffb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37000" y="5818320"/>
              <a:ext cx="39621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85880" y="563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ูปดวงจักรราศีแบบสากล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7760" y="336600"/>
            <a:ext cx="5019840" cy="5016600"/>
          </a:xfrm>
          <a:custGeom>
            <a:avLst/>
            <a:gdLst/>
            <a:ahLst/>
            <a:rect l="l" t="t" r="r" b="b"/>
            <a:pathLst>
              <a:path w="3162" h="3160">
                <a:moveTo>
                  <a:pt x="3161" y="1580"/>
                </a:moveTo>
                <a:lnTo>
                  <a:pt x="3160" y="1543"/>
                </a:lnTo>
                <a:lnTo>
                  <a:pt x="3160" y="1507"/>
                </a:lnTo>
                <a:lnTo>
                  <a:pt x="3157" y="1470"/>
                </a:lnTo>
                <a:lnTo>
                  <a:pt x="3154" y="1434"/>
                </a:lnTo>
                <a:lnTo>
                  <a:pt x="3151" y="1398"/>
                </a:lnTo>
                <a:lnTo>
                  <a:pt x="3146" y="1362"/>
                </a:lnTo>
                <a:lnTo>
                  <a:pt x="3140" y="1326"/>
                </a:lnTo>
                <a:lnTo>
                  <a:pt x="3134" y="1290"/>
                </a:lnTo>
                <a:lnTo>
                  <a:pt x="3127" y="1253"/>
                </a:lnTo>
                <a:lnTo>
                  <a:pt x="3119" y="1218"/>
                </a:lnTo>
                <a:lnTo>
                  <a:pt x="3110" y="1183"/>
                </a:lnTo>
                <a:lnTo>
                  <a:pt x="3101" y="1147"/>
                </a:lnTo>
                <a:lnTo>
                  <a:pt x="3090" y="1112"/>
                </a:lnTo>
                <a:lnTo>
                  <a:pt x="3079" y="1078"/>
                </a:lnTo>
                <a:lnTo>
                  <a:pt x="3068" y="1043"/>
                </a:lnTo>
                <a:lnTo>
                  <a:pt x="3054" y="1009"/>
                </a:lnTo>
                <a:lnTo>
                  <a:pt x="3040" y="975"/>
                </a:lnTo>
                <a:lnTo>
                  <a:pt x="3026" y="941"/>
                </a:lnTo>
                <a:lnTo>
                  <a:pt x="3012" y="908"/>
                </a:lnTo>
                <a:lnTo>
                  <a:pt x="2995" y="876"/>
                </a:lnTo>
                <a:lnTo>
                  <a:pt x="2979" y="843"/>
                </a:lnTo>
                <a:lnTo>
                  <a:pt x="2962" y="811"/>
                </a:lnTo>
                <a:lnTo>
                  <a:pt x="2943" y="779"/>
                </a:lnTo>
                <a:lnTo>
                  <a:pt x="2925" y="749"/>
                </a:lnTo>
                <a:lnTo>
                  <a:pt x="2905" y="718"/>
                </a:lnTo>
                <a:lnTo>
                  <a:pt x="2884" y="687"/>
                </a:lnTo>
                <a:lnTo>
                  <a:pt x="2864" y="657"/>
                </a:lnTo>
                <a:lnTo>
                  <a:pt x="2842" y="628"/>
                </a:lnTo>
                <a:lnTo>
                  <a:pt x="2819" y="599"/>
                </a:lnTo>
                <a:lnTo>
                  <a:pt x="2797" y="570"/>
                </a:lnTo>
                <a:lnTo>
                  <a:pt x="2773" y="542"/>
                </a:lnTo>
                <a:lnTo>
                  <a:pt x="2749" y="515"/>
                </a:lnTo>
                <a:lnTo>
                  <a:pt x="2724" y="489"/>
                </a:lnTo>
                <a:lnTo>
                  <a:pt x="2698" y="463"/>
                </a:lnTo>
                <a:lnTo>
                  <a:pt x="2672" y="437"/>
                </a:lnTo>
                <a:lnTo>
                  <a:pt x="2645" y="412"/>
                </a:lnTo>
                <a:lnTo>
                  <a:pt x="2618" y="388"/>
                </a:lnTo>
                <a:lnTo>
                  <a:pt x="2590" y="364"/>
                </a:lnTo>
                <a:lnTo>
                  <a:pt x="2562" y="342"/>
                </a:lnTo>
                <a:lnTo>
                  <a:pt x="2533" y="319"/>
                </a:lnTo>
                <a:lnTo>
                  <a:pt x="2504" y="297"/>
                </a:lnTo>
                <a:lnTo>
                  <a:pt x="2473" y="277"/>
                </a:lnTo>
                <a:lnTo>
                  <a:pt x="2443" y="256"/>
                </a:lnTo>
                <a:lnTo>
                  <a:pt x="2412" y="236"/>
                </a:lnTo>
                <a:lnTo>
                  <a:pt x="2381" y="218"/>
                </a:lnTo>
                <a:lnTo>
                  <a:pt x="2350" y="199"/>
                </a:lnTo>
                <a:lnTo>
                  <a:pt x="2317" y="183"/>
                </a:lnTo>
                <a:lnTo>
                  <a:pt x="2285" y="166"/>
                </a:lnTo>
                <a:lnTo>
                  <a:pt x="2252" y="149"/>
                </a:lnTo>
                <a:lnTo>
                  <a:pt x="2219" y="135"/>
                </a:lnTo>
                <a:lnTo>
                  <a:pt x="2185" y="121"/>
                </a:lnTo>
                <a:lnTo>
                  <a:pt x="2152" y="107"/>
                </a:lnTo>
                <a:lnTo>
                  <a:pt x="2117" y="94"/>
                </a:lnTo>
                <a:lnTo>
                  <a:pt x="2083" y="82"/>
                </a:lnTo>
                <a:lnTo>
                  <a:pt x="2048" y="71"/>
                </a:lnTo>
                <a:lnTo>
                  <a:pt x="2013" y="60"/>
                </a:lnTo>
                <a:lnTo>
                  <a:pt x="1978" y="51"/>
                </a:lnTo>
                <a:lnTo>
                  <a:pt x="1943" y="42"/>
                </a:lnTo>
                <a:lnTo>
                  <a:pt x="1907" y="34"/>
                </a:lnTo>
                <a:lnTo>
                  <a:pt x="1871" y="26"/>
                </a:lnTo>
                <a:lnTo>
                  <a:pt x="1835" y="21"/>
                </a:lnTo>
                <a:lnTo>
                  <a:pt x="1798" y="15"/>
                </a:lnTo>
                <a:lnTo>
                  <a:pt x="1763" y="11"/>
                </a:lnTo>
                <a:lnTo>
                  <a:pt x="1726" y="7"/>
                </a:lnTo>
                <a:lnTo>
                  <a:pt x="1689" y="4"/>
                </a:lnTo>
                <a:lnTo>
                  <a:pt x="1653" y="2"/>
                </a:lnTo>
                <a:lnTo>
                  <a:pt x="1617" y="1"/>
                </a:lnTo>
                <a:lnTo>
                  <a:pt x="1581" y="0"/>
                </a:lnTo>
                <a:lnTo>
                  <a:pt x="1544" y="1"/>
                </a:lnTo>
                <a:lnTo>
                  <a:pt x="1507" y="2"/>
                </a:lnTo>
                <a:lnTo>
                  <a:pt x="1471" y="4"/>
                </a:lnTo>
                <a:lnTo>
                  <a:pt x="1435" y="7"/>
                </a:lnTo>
                <a:lnTo>
                  <a:pt x="1398" y="11"/>
                </a:lnTo>
                <a:lnTo>
                  <a:pt x="1362" y="15"/>
                </a:lnTo>
                <a:lnTo>
                  <a:pt x="1326" y="21"/>
                </a:lnTo>
                <a:lnTo>
                  <a:pt x="1290" y="26"/>
                </a:lnTo>
                <a:lnTo>
                  <a:pt x="1254" y="34"/>
                </a:lnTo>
                <a:lnTo>
                  <a:pt x="1219" y="42"/>
                </a:lnTo>
                <a:lnTo>
                  <a:pt x="1183" y="51"/>
                </a:lnTo>
                <a:lnTo>
                  <a:pt x="1148" y="60"/>
                </a:lnTo>
                <a:lnTo>
                  <a:pt x="1113" y="71"/>
                </a:lnTo>
                <a:lnTo>
                  <a:pt x="1078" y="82"/>
                </a:lnTo>
                <a:lnTo>
                  <a:pt x="1043" y="94"/>
                </a:lnTo>
                <a:lnTo>
                  <a:pt x="1009" y="107"/>
                </a:lnTo>
                <a:lnTo>
                  <a:pt x="975" y="121"/>
                </a:lnTo>
                <a:lnTo>
                  <a:pt x="942" y="135"/>
                </a:lnTo>
                <a:lnTo>
                  <a:pt x="908" y="149"/>
                </a:lnTo>
                <a:lnTo>
                  <a:pt x="876" y="166"/>
                </a:lnTo>
                <a:lnTo>
                  <a:pt x="843" y="183"/>
                </a:lnTo>
                <a:lnTo>
                  <a:pt x="811" y="199"/>
                </a:lnTo>
                <a:lnTo>
                  <a:pt x="780" y="218"/>
                </a:lnTo>
                <a:lnTo>
                  <a:pt x="748" y="236"/>
                </a:lnTo>
                <a:lnTo>
                  <a:pt x="717" y="256"/>
                </a:lnTo>
                <a:lnTo>
                  <a:pt x="688" y="277"/>
                </a:lnTo>
                <a:lnTo>
                  <a:pt x="657" y="297"/>
                </a:lnTo>
                <a:lnTo>
                  <a:pt x="628" y="319"/>
                </a:lnTo>
                <a:lnTo>
                  <a:pt x="599" y="342"/>
                </a:lnTo>
                <a:lnTo>
                  <a:pt x="571" y="364"/>
                </a:lnTo>
                <a:lnTo>
                  <a:pt x="543" y="388"/>
                </a:lnTo>
                <a:lnTo>
                  <a:pt x="515" y="412"/>
                </a:lnTo>
                <a:lnTo>
                  <a:pt x="489" y="437"/>
                </a:lnTo>
                <a:lnTo>
                  <a:pt x="462" y="463"/>
                </a:lnTo>
                <a:lnTo>
                  <a:pt x="437" y="489"/>
                </a:lnTo>
                <a:lnTo>
                  <a:pt x="412" y="515"/>
                </a:lnTo>
                <a:lnTo>
                  <a:pt x="388" y="542"/>
                </a:lnTo>
                <a:lnTo>
                  <a:pt x="364" y="570"/>
                </a:lnTo>
                <a:lnTo>
                  <a:pt x="342" y="599"/>
                </a:lnTo>
                <a:lnTo>
                  <a:pt x="319" y="628"/>
                </a:lnTo>
                <a:lnTo>
                  <a:pt x="297" y="657"/>
                </a:lnTo>
                <a:lnTo>
                  <a:pt x="276" y="687"/>
                </a:lnTo>
                <a:lnTo>
                  <a:pt x="256" y="718"/>
                </a:lnTo>
                <a:lnTo>
                  <a:pt x="236" y="749"/>
                </a:lnTo>
                <a:lnTo>
                  <a:pt x="218" y="779"/>
                </a:lnTo>
                <a:lnTo>
                  <a:pt x="199" y="811"/>
                </a:lnTo>
                <a:lnTo>
                  <a:pt x="182" y="843"/>
                </a:lnTo>
                <a:lnTo>
                  <a:pt x="166" y="876"/>
                </a:lnTo>
                <a:lnTo>
                  <a:pt x="149" y="908"/>
                </a:lnTo>
                <a:lnTo>
                  <a:pt x="135" y="941"/>
                </a:lnTo>
                <a:lnTo>
                  <a:pt x="120" y="975"/>
                </a:lnTo>
                <a:lnTo>
                  <a:pt x="107" y="1009"/>
                </a:lnTo>
                <a:lnTo>
                  <a:pt x="94" y="1043"/>
                </a:lnTo>
                <a:lnTo>
                  <a:pt x="82" y="1078"/>
                </a:lnTo>
                <a:lnTo>
                  <a:pt x="71" y="1112"/>
                </a:lnTo>
                <a:lnTo>
                  <a:pt x="60" y="1147"/>
                </a:lnTo>
                <a:lnTo>
                  <a:pt x="50" y="1183"/>
                </a:lnTo>
                <a:lnTo>
                  <a:pt x="42" y="1218"/>
                </a:lnTo>
                <a:lnTo>
                  <a:pt x="34" y="1253"/>
                </a:lnTo>
                <a:lnTo>
                  <a:pt x="27" y="1290"/>
                </a:lnTo>
                <a:lnTo>
                  <a:pt x="21" y="1326"/>
                </a:lnTo>
                <a:lnTo>
                  <a:pt x="15" y="1362"/>
                </a:lnTo>
                <a:lnTo>
                  <a:pt x="10" y="1398"/>
                </a:lnTo>
                <a:lnTo>
                  <a:pt x="7" y="1434"/>
                </a:lnTo>
                <a:lnTo>
                  <a:pt x="4" y="1470"/>
                </a:lnTo>
                <a:lnTo>
                  <a:pt x="1" y="1507"/>
                </a:lnTo>
                <a:lnTo>
                  <a:pt x="0" y="1543"/>
                </a:lnTo>
                <a:lnTo>
                  <a:pt x="0" y="1580"/>
                </a:lnTo>
                <a:lnTo>
                  <a:pt x="0" y="1616"/>
                </a:lnTo>
                <a:lnTo>
                  <a:pt x="1" y="1652"/>
                </a:lnTo>
                <a:lnTo>
                  <a:pt x="4" y="1689"/>
                </a:lnTo>
                <a:lnTo>
                  <a:pt x="7" y="1725"/>
                </a:lnTo>
                <a:lnTo>
                  <a:pt x="10" y="1762"/>
                </a:lnTo>
                <a:lnTo>
                  <a:pt x="15" y="1798"/>
                </a:lnTo>
                <a:lnTo>
                  <a:pt x="21" y="1834"/>
                </a:lnTo>
                <a:lnTo>
                  <a:pt x="27" y="1869"/>
                </a:lnTo>
                <a:lnTo>
                  <a:pt x="34" y="1906"/>
                </a:lnTo>
                <a:lnTo>
                  <a:pt x="42" y="1941"/>
                </a:lnTo>
                <a:lnTo>
                  <a:pt x="50" y="1976"/>
                </a:lnTo>
                <a:lnTo>
                  <a:pt x="60" y="2012"/>
                </a:lnTo>
                <a:lnTo>
                  <a:pt x="71" y="2047"/>
                </a:lnTo>
                <a:lnTo>
                  <a:pt x="82" y="2081"/>
                </a:lnTo>
                <a:lnTo>
                  <a:pt x="94" y="2116"/>
                </a:lnTo>
                <a:lnTo>
                  <a:pt x="107" y="2151"/>
                </a:lnTo>
                <a:lnTo>
                  <a:pt x="120" y="2184"/>
                </a:lnTo>
                <a:lnTo>
                  <a:pt x="135" y="2218"/>
                </a:lnTo>
                <a:lnTo>
                  <a:pt x="149" y="2251"/>
                </a:lnTo>
                <a:lnTo>
                  <a:pt x="166" y="2284"/>
                </a:lnTo>
                <a:lnTo>
                  <a:pt x="182" y="2316"/>
                </a:lnTo>
                <a:lnTo>
                  <a:pt x="199" y="2348"/>
                </a:lnTo>
                <a:lnTo>
                  <a:pt x="218" y="2380"/>
                </a:lnTo>
                <a:lnTo>
                  <a:pt x="236" y="2411"/>
                </a:lnTo>
                <a:lnTo>
                  <a:pt x="256" y="2442"/>
                </a:lnTo>
                <a:lnTo>
                  <a:pt x="276" y="2472"/>
                </a:lnTo>
                <a:lnTo>
                  <a:pt x="297" y="2502"/>
                </a:lnTo>
                <a:lnTo>
                  <a:pt x="319" y="2531"/>
                </a:lnTo>
                <a:lnTo>
                  <a:pt x="342" y="2561"/>
                </a:lnTo>
                <a:lnTo>
                  <a:pt x="364" y="2589"/>
                </a:lnTo>
                <a:lnTo>
                  <a:pt x="388" y="2617"/>
                </a:lnTo>
                <a:lnTo>
                  <a:pt x="412" y="2644"/>
                </a:lnTo>
                <a:lnTo>
                  <a:pt x="437" y="2670"/>
                </a:lnTo>
                <a:lnTo>
                  <a:pt x="462" y="2696"/>
                </a:lnTo>
                <a:lnTo>
                  <a:pt x="489" y="2722"/>
                </a:lnTo>
                <a:lnTo>
                  <a:pt x="515" y="2747"/>
                </a:lnTo>
                <a:lnTo>
                  <a:pt x="543" y="2771"/>
                </a:lnTo>
                <a:lnTo>
                  <a:pt x="571" y="2795"/>
                </a:lnTo>
                <a:lnTo>
                  <a:pt x="599" y="2817"/>
                </a:lnTo>
                <a:lnTo>
                  <a:pt x="628" y="2840"/>
                </a:lnTo>
                <a:lnTo>
                  <a:pt x="657" y="2862"/>
                </a:lnTo>
                <a:lnTo>
                  <a:pt x="688" y="2883"/>
                </a:lnTo>
                <a:lnTo>
                  <a:pt x="717" y="2903"/>
                </a:lnTo>
                <a:lnTo>
                  <a:pt x="748" y="2923"/>
                </a:lnTo>
                <a:lnTo>
                  <a:pt x="780" y="2941"/>
                </a:lnTo>
                <a:lnTo>
                  <a:pt x="811" y="2960"/>
                </a:lnTo>
                <a:lnTo>
                  <a:pt x="843" y="2977"/>
                </a:lnTo>
                <a:lnTo>
                  <a:pt x="876" y="2994"/>
                </a:lnTo>
                <a:lnTo>
                  <a:pt x="908" y="3010"/>
                </a:lnTo>
                <a:lnTo>
                  <a:pt x="942" y="3024"/>
                </a:lnTo>
                <a:lnTo>
                  <a:pt x="975" y="3039"/>
                </a:lnTo>
                <a:lnTo>
                  <a:pt x="1009" y="3052"/>
                </a:lnTo>
                <a:lnTo>
                  <a:pt x="1043" y="3065"/>
                </a:lnTo>
                <a:lnTo>
                  <a:pt x="1078" y="3077"/>
                </a:lnTo>
                <a:lnTo>
                  <a:pt x="1113" y="3088"/>
                </a:lnTo>
                <a:lnTo>
                  <a:pt x="1148" y="3099"/>
                </a:lnTo>
                <a:lnTo>
                  <a:pt x="1183" y="3108"/>
                </a:lnTo>
                <a:lnTo>
                  <a:pt x="1219" y="3117"/>
                </a:lnTo>
                <a:lnTo>
                  <a:pt x="1254" y="3125"/>
                </a:lnTo>
                <a:lnTo>
                  <a:pt x="1290" y="3133"/>
                </a:lnTo>
                <a:lnTo>
                  <a:pt x="1326" y="3138"/>
                </a:lnTo>
                <a:lnTo>
                  <a:pt x="1362" y="3144"/>
                </a:lnTo>
                <a:lnTo>
                  <a:pt x="1398" y="3149"/>
                </a:lnTo>
                <a:lnTo>
                  <a:pt x="1435" y="3152"/>
                </a:lnTo>
                <a:lnTo>
                  <a:pt x="1471" y="3155"/>
                </a:lnTo>
                <a:lnTo>
                  <a:pt x="1507" y="3158"/>
                </a:lnTo>
                <a:lnTo>
                  <a:pt x="1544" y="3159"/>
                </a:lnTo>
                <a:lnTo>
                  <a:pt x="1581" y="3159"/>
                </a:lnTo>
                <a:lnTo>
                  <a:pt x="1617" y="3159"/>
                </a:lnTo>
                <a:lnTo>
                  <a:pt x="1653" y="3158"/>
                </a:lnTo>
                <a:lnTo>
                  <a:pt x="1689" y="3155"/>
                </a:lnTo>
                <a:lnTo>
                  <a:pt x="1726" y="3152"/>
                </a:lnTo>
                <a:lnTo>
                  <a:pt x="1763" y="3149"/>
                </a:lnTo>
                <a:lnTo>
                  <a:pt x="1798" y="3144"/>
                </a:lnTo>
                <a:lnTo>
                  <a:pt x="1835" y="3138"/>
                </a:lnTo>
                <a:lnTo>
                  <a:pt x="1871" y="3133"/>
                </a:lnTo>
                <a:lnTo>
                  <a:pt x="1907" y="3125"/>
                </a:lnTo>
                <a:lnTo>
                  <a:pt x="1943" y="3117"/>
                </a:lnTo>
                <a:lnTo>
                  <a:pt x="1978" y="3108"/>
                </a:lnTo>
                <a:lnTo>
                  <a:pt x="2013" y="3099"/>
                </a:lnTo>
                <a:lnTo>
                  <a:pt x="2048" y="3088"/>
                </a:lnTo>
                <a:lnTo>
                  <a:pt x="2083" y="3077"/>
                </a:lnTo>
                <a:lnTo>
                  <a:pt x="2117" y="3065"/>
                </a:lnTo>
                <a:lnTo>
                  <a:pt x="2152" y="3052"/>
                </a:lnTo>
                <a:lnTo>
                  <a:pt x="2185" y="3039"/>
                </a:lnTo>
                <a:lnTo>
                  <a:pt x="2219" y="3024"/>
                </a:lnTo>
                <a:lnTo>
                  <a:pt x="2252" y="3010"/>
                </a:lnTo>
                <a:lnTo>
                  <a:pt x="2285" y="2994"/>
                </a:lnTo>
                <a:lnTo>
                  <a:pt x="2317" y="2977"/>
                </a:lnTo>
                <a:lnTo>
                  <a:pt x="2350" y="2960"/>
                </a:lnTo>
                <a:lnTo>
                  <a:pt x="2381" y="2941"/>
                </a:lnTo>
                <a:lnTo>
                  <a:pt x="2412" y="2923"/>
                </a:lnTo>
                <a:lnTo>
                  <a:pt x="2443" y="2903"/>
                </a:lnTo>
                <a:lnTo>
                  <a:pt x="2473" y="2883"/>
                </a:lnTo>
                <a:lnTo>
                  <a:pt x="2504" y="2862"/>
                </a:lnTo>
                <a:lnTo>
                  <a:pt x="2533" y="2840"/>
                </a:lnTo>
                <a:lnTo>
                  <a:pt x="2562" y="2817"/>
                </a:lnTo>
                <a:lnTo>
                  <a:pt x="2590" y="2795"/>
                </a:lnTo>
                <a:lnTo>
                  <a:pt x="2618" y="2771"/>
                </a:lnTo>
                <a:lnTo>
                  <a:pt x="2645" y="2747"/>
                </a:lnTo>
                <a:lnTo>
                  <a:pt x="2672" y="2722"/>
                </a:lnTo>
                <a:lnTo>
                  <a:pt x="2698" y="2696"/>
                </a:lnTo>
                <a:lnTo>
                  <a:pt x="2724" y="2670"/>
                </a:lnTo>
                <a:lnTo>
                  <a:pt x="2749" y="2644"/>
                </a:lnTo>
                <a:lnTo>
                  <a:pt x="2773" y="2617"/>
                </a:lnTo>
                <a:lnTo>
                  <a:pt x="2797" y="2589"/>
                </a:lnTo>
                <a:lnTo>
                  <a:pt x="2819" y="2561"/>
                </a:lnTo>
                <a:lnTo>
                  <a:pt x="2842" y="2531"/>
                </a:lnTo>
                <a:lnTo>
                  <a:pt x="2864" y="2502"/>
                </a:lnTo>
                <a:lnTo>
                  <a:pt x="2884" y="2472"/>
                </a:lnTo>
                <a:lnTo>
                  <a:pt x="2905" y="2442"/>
                </a:lnTo>
                <a:lnTo>
                  <a:pt x="2925" y="2411"/>
                </a:lnTo>
                <a:lnTo>
                  <a:pt x="2943" y="2380"/>
                </a:lnTo>
                <a:lnTo>
                  <a:pt x="2962" y="2348"/>
                </a:lnTo>
                <a:lnTo>
                  <a:pt x="2979" y="2316"/>
                </a:lnTo>
                <a:lnTo>
                  <a:pt x="2995" y="2284"/>
                </a:lnTo>
                <a:lnTo>
                  <a:pt x="3012" y="2251"/>
                </a:lnTo>
                <a:lnTo>
                  <a:pt x="3026" y="2218"/>
                </a:lnTo>
                <a:lnTo>
                  <a:pt x="3040" y="2184"/>
                </a:lnTo>
                <a:lnTo>
                  <a:pt x="3054" y="2151"/>
                </a:lnTo>
                <a:lnTo>
                  <a:pt x="3068" y="2116"/>
                </a:lnTo>
                <a:lnTo>
                  <a:pt x="3079" y="2081"/>
                </a:lnTo>
                <a:lnTo>
                  <a:pt x="3090" y="2047"/>
                </a:lnTo>
                <a:lnTo>
                  <a:pt x="3101" y="2012"/>
                </a:lnTo>
                <a:lnTo>
                  <a:pt x="3110" y="1976"/>
                </a:lnTo>
                <a:lnTo>
                  <a:pt x="3119" y="1941"/>
                </a:lnTo>
                <a:lnTo>
                  <a:pt x="3127" y="1906"/>
                </a:lnTo>
                <a:lnTo>
                  <a:pt x="3134" y="1869"/>
                </a:lnTo>
                <a:lnTo>
                  <a:pt x="3140" y="1834"/>
                </a:lnTo>
                <a:lnTo>
                  <a:pt x="3146" y="1798"/>
                </a:lnTo>
                <a:lnTo>
                  <a:pt x="3151" y="1762"/>
                </a:lnTo>
                <a:lnTo>
                  <a:pt x="3154" y="1725"/>
                </a:lnTo>
                <a:lnTo>
                  <a:pt x="3157" y="1689"/>
                </a:lnTo>
                <a:lnTo>
                  <a:pt x="3160" y="1652"/>
                </a:lnTo>
                <a:lnTo>
                  <a:pt x="3160" y="1616"/>
                </a:lnTo>
                <a:lnTo>
                  <a:pt x="3161" y="15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"/>
          <p:cNvSpPr/>
          <p:nvPr/>
        </p:nvSpPr>
        <p:spPr>
          <a:xfrm>
            <a:off x="4151160" y="403200"/>
            <a:ext cx="0" cy="488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96720"/>
            <a:ext cx="0" cy="488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"/>
          <p:cNvSpPr/>
          <p:nvPr/>
        </p:nvSpPr>
        <p:spPr>
          <a:xfrm>
            <a:off x="2876400" y="1063800"/>
            <a:ext cx="3567240" cy="35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909880" y="1084320"/>
            <a:ext cx="3532320" cy="355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"/>
          <p:cNvSpPr/>
          <p:nvPr/>
        </p:nvSpPr>
        <p:spPr>
          <a:xfrm>
            <a:off x="2232000" y="2330280"/>
            <a:ext cx="488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14720" y="3348000"/>
            <a:ext cx="4879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"/>
          <p:cNvSpPr/>
          <p:nvPr/>
        </p:nvSpPr>
        <p:spPr>
          <a:xfrm>
            <a:off x="4156200" y="2330280"/>
            <a:ext cx="1028520" cy="1027440"/>
          </a:xfrm>
          <a:custGeom>
            <a:avLst/>
            <a:gdLst/>
            <a:ahLst/>
            <a:rect l="l" t="t" r="r" b="b"/>
            <a:pathLst>
              <a:path w="648" h="647">
                <a:moveTo>
                  <a:pt x="0" y="0"/>
                </a:moveTo>
                <a:lnTo>
                  <a:pt x="647" y="0"/>
                </a:lnTo>
                <a:lnTo>
                  <a:pt x="647" y="646"/>
                </a:lnTo>
                <a:lnTo>
                  <a:pt x="0" y="6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9" name=""/>
          <p:cNvSpPr/>
          <p:nvPr/>
        </p:nvSpPr>
        <p:spPr>
          <a:xfrm>
            <a:off x="4502160" y="905040"/>
            <a:ext cx="81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เมษ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0" name=""/>
          <p:cNvSpPr/>
          <p:nvPr/>
        </p:nvSpPr>
        <p:spPr>
          <a:xfrm>
            <a:off x="3314520" y="884160"/>
            <a:ext cx="121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พฤษภ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"/>
          <p:cNvSpPr/>
          <p:nvPr/>
        </p:nvSpPr>
        <p:spPr>
          <a:xfrm>
            <a:off x="3046680" y="1635120"/>
            <a:ext cx="92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มิถุ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2" name=""/>
          <p:cNvSpPr/>
          <p:nvPr/>
        </p:nvSpPr>
        <p:spPr>
          <a:xfrm>
            <a:off x="2639160" y="2527200"/>
            <a:ext cx="111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กรกฎ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3" name=""/>
          <p:cNvSpPr/>
          <p:nvPr/>
        </p:nvSpPr>
        <p:spPr>
          <a:xfrm>
            <a:off x="2993040" y="3560760"/>
            <a:ext cx="871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สิงห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"/>
          <p:cNvSpPr/>
          <p:nvPr/>
        </p:nvSpPr>
        <p:spPr>
          <a:xfrm>
            <a:off x="3740040" y="4309920"/>
            <a:ext cx="91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กัน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5" name=""/>
          <p:cNvSpPr/>
          <p:nvPr/>
        </p:nvSpPr>
        <p:spPr>
          <a:xfrm>
            <a:off x="4773600" y="4330800"/>
            <a:ext cx="914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ตุล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"/>
          <p:cNvSpPr/>
          <p:nvPr/>
        </p:nvSpPr>
        <p:spPr>
          <a:xfrm>
            <a:off x="5701680" y="4289400"/>
            <a:ext cx="92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พิจิก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"/>
          <p:cNvSpPr/>
          <p:nvPr/>
        </p:nvSpPr>
        <p:spPr>
          <a:xfrm>
            <a:off x="6242760" y="3498840"/>
            <a:ext cx="652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ธนู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"/>
          <p:cNvSpPr/>
          <p:nvPr/>
        </p:nvSpPr>
        <p:spPr>
          <a:xfrm>
            <a:off x="6307560" y="2546280"/>
            <a:ext cx="109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มังก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"/>
          <p:cNvSpPr/>
          <p:nvPr/>
        </p:nvSpPr>
        <p:spPr>
          <a:xfrm>
            <a:off x="6334200" y="1616040"/>
            <a:ext cx="92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กุมภ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"/>
          <p:cNvSpPr/>
          <p:nvPr/>
        </p:nvSpPr>
        <p:spPr>
          <a:xfrm>
            <a:off x="5661360" y="923760"/>
            <a:ext cx="68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มี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"/>
          <p:cNvSpPr/>
          <p:nvPr/>
        </p:nvSpPr>
        <p:spPr>
          <a:xfrm>
            <a:off x="4624560" y="2568600"/>
            <a:ext cx="1053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900"/>
                </a:solidFill>
                <a:latin typeface="Times New Roman"/>
                <a:ea typeface="AngsanaUPC"/>
              </a:rPr>
              <a:t>(</a:t>
            </a:r>
            <a:r>
              <a:rPr b="0" lang="hi-IN" sz="3200" spc="-1" strike="noStrike">
                <a:solidFill>
                  <a:srgbClr val="b3b900"/>
                </a:solidFill>
                <a:latin typeface="Times New Roman"/>
                <a:cs typeface="AngsanaUPC"/>
              </a:rPr>
              <a:t>โลก</a:t>
            </a:r>
            <a:r>
              <a:rPr b="0" lang="en-US" sz="3200" spc="-1" strike="noStrike">
                <a:solidFill>
                  <a:srgbClr val="b3b900"/>
                </a:solidFill>
                <a:latin typeface="Times New Roman"/>
                <a:ea typeface="Angsan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854440" y="5726160"/>
            <a:ext cx="3595680" cy="817560"/>
            <a:chOff x="2854440" y="5726160"/>
            <a:chExt cx="3595680" cy="817560"/>
          </a:xfrm>
        </p:grpSpPr>
        <p:sp>
          <p:nvSpPr>
            <p:cNvPr id="323" name=""/>
            <p:cNvSpPr/>
            <p:nvPr/>
          </p:nvSpPr>
          <p:spPr>
            <a:xfrm>
              <a:off x="2854440" y="5726160"/>
              <a:ext cx="3595680" cy="817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114ffb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98800" y="5778360"/>
              <a:ext cx="336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6800" y="555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ภาพจักรราศีแบบไทย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14360" y="227160"/>
            <a:ext cx="664056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7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8901f3"/>
                </a:solidFill>
                <a:latin typeface="Angsana New"/>
                <a:cs typeface="Angsana New"/>
              </a:rPr>
              <a:t>จุดทวาร </a:t>
            </a:r>
            <a:br>
              <a:rPr sz="4000"/>
            </a:br>
            <a:r>
              <a:rPr b="1" lang="hi-IN" sz="3600" spc="-1" strike="noStrike">
                <a:solidFill>
                  <a:srgbClr val="8901f3"/>
                </a:solidFill>
                <a:latin typeface="Angsana New"/>
                <a:cs typeface="Angsana New"/>
              </a:rPr>
              <a:t>คือจุดเปลี่ยนฤดูกาล </a:t>
            </a:r>
            <a:r>
              <a:rPr b="1" lang="en-US" sz="3600" spc="-1" strike="noStrike">
                <a:solidFill>
                  <a:srgbClr val="8901f3"/>
                </a:solidFill>
                <a:latin typeface="Angsana New"/>
                <a:ea typeface="Angsana New"/>
              </a:rPr>
              <a:t>4 </a:t>
            </a:r>
            <a:r>
              <a:rPr b="1" lang="hi-IN" sz="3600" spc="-1" strike="noStrike">
                <a:solidFill>
                  <a:srgbClr val="8901f3"/>
                </a:solidFill>
                <a:latin typeface="Angsana New"/>
                <a:cs typeface="Angsana New"/>
              </a:rPr>
              <a:t>จุด ได้แก่</a:t>
            </a:r>
            <a:endParaRPr b="0" lang="en-US" sz="36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14280" y="2895120"/>
            <a:ext cx="7026480" cy="317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จุดอุตตรวิษุวัต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เริ่มฤดูใบไม้ผลิ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21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มี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ค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จุดครีษมายัน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เริ่มฤดูร้อน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21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มิ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ย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จุดศารทวิษุวัต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เริ่มฤดูใบไม้ร่วง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23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ก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ย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จุดเหมายัน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เริ่มฤดูหนาว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21 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ธ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cs typeface="Browallia New"/>
              </a:rPr>
              <a:t>ค</a:t>
            </a:r>
            <a:r>
              <a:rPr b="1" lang="th-TH" sz="2400" spc="-1" strike="noStrike">
                <a:solidFill>
                  <a:srgbClr val="114ffb"/>
                </a:solidFill>
                <a:latin typeface="Browallia New"/>
                <a:ea typeface="Browall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8901f3"/>
                </a:solidFill>
                <a:latin typeface="Angsana New"/>
                <a:cs typeface="Angsana New"/>
              </a:rPr>
              <a:t>ขอบเขตราศีทั้ง </a:t>
            </a:r>
            <a:r>
              <a:rPr b="0" lang="en-US" sz="3600" spc="-1" strike="noStrike">
                <a:solidFill>
                  <a:srgbClr val="8901f3"/>
                </a:solidFill>
                <a:latin typeface="Angsana New"/>
                <a:ea typeface="Angsana New"/>
              </a:rPr>
              <a:t>12 </a:t>
            </a:r>
            <a:r>
              <a:rPr b="0" lang="hi-IN" sz="3600" spc="-1" strike="noStrike">
                <a:solidFill>
                  <a:srgbClr val="8901f3"/>
                </a:solidFill>
                <a:latin typeface="Angsana New"/>
                <a:cs typeface="Angsana New"/>
              </a:rPr>
              <a:t>วัดจากจุดเริ่มต้นจักรราศี</a:t>
            </a:r>
            <a:endParaRPr b="0" lang="en-US" sz="36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เมษ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    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0-30  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พฤษภ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  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30-60  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มิถุน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  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60-90  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กรกฎ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  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90-120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สิงห์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120-150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ราศีกันย์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en-US" sz="2400" spc="-1" strike="noStrike">
                <a:solidFill>
                  <a:srgbClr val="114ffb"/>
                </a:solidFill>
                <a:latin typeface="Angsana New"/>
              </a:rPr>
              <a:t>150-180 </a:t>
            </a:r>
            <a:r>
              <a:rPr b="0" lang="hi-IN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ตุลย์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180-21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พิจิก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210-24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ธนู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240-27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มังกร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270-30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กุมภ์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300-33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ts val="4997"/>
              </a:lnSpc>
              <a:spcBef>
                <a:spcPts val="601"/>
              </a:spcBef>
              <a:buClr>
                <a:srgbClr val="8901f3"/>
              </a:buClr>
              <a:buSzPct val="75000"/>
              <a:buFont typeface="Wingding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ราศีมีน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330-360 </a:t>
            </a:r>
            <a:r>
              <a:rPr b="0" lang="th-TH" sz="2400" spc="-1" strike="noStrike">
                <a:solidFill>
                  <a:srgbClr val="114ffb"/>
                </a:solidFill>
                <a:latin typeface="Angsana New"/>
              </a:rPr>
              <a:t>องศ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8a84"/>
                </a:solidFill>
                <a:latin typeface="Angsana New"/>
                <a:cs typeface="Angsana New"/>
              </a:rPr>
              <a:t>สัญญลักษณ์ราศีทั้ง </a:t>
            </a:r>
            <a:r>
              <a:rPr b="1" lang="th-TH" sz="4400" spc="-1" strike="noStrike">
                <a:solidFill>
                  <a:srgbClr val="008a84"/>
                </a:solidFill>
                <a:latin typeface="Angsana New"/>
                <a:ea typeface="Angsana New"/>
              </a:rPr>
              <a:t>12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16040" y="1206360"/>
          <a:ext cx="108900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206360"/>
                    <a:ext cx="10890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09560" y="2766960"/>
          <a:ext cx="1147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560" y="2766960"/>
                    <a:ext cx="1147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96960" y="4286160"/>
          <a:ext cx="1125360" cy="7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6960" y="4286160"/>
                    <a:ext cx="11253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676440" y="5815080"/>
          <a:ext cx="113652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6440" y="5815080"/>
                    <a:ext cx="11365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444840" y="1206360"/>
          <a:ext cx="119556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4840" y="1206360"/>
                    <a:ext cx="11955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381480" y="2786040"/>
          <a:ext cx="1112760" cy="79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81480" y="2786040"/>
                    <a:ext cx="11127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332160" y="4294080"/>
          <a:ext cx="1089000" cy="73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2160" y="4294080"/>
                    <a:ext cx="10890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262320" y="5773680"/>
          <a:ext cx="1182600" cy="77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62320" y="5773680"/>
                    <a:ext cx="1182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318360" y="1265400"/>
          <a:ext cx="1112760" cy="78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18360" y="1265400"/>
                    <a:ext cx="11127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6357960" y="2822400"/>
          <a:ext cx="1042920" cy="668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7960" y="2822400"/>
                    <a:ext cx="1042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6280200" y="4251240"/>
          <a:ext cx="1066680" cy="73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80200" y="4251240"/>
                    <a:ext cx="1066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261120" y="5770440"/>
          <a:ext cx="1112760" cy="657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61120" y="5770440"/>
                    <a:ext cx="11127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974960" y="961920"/>
            <a:ext cx="1025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มษ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7" name=""/>
          <p:cNvSpPr/>
          <p:nvPr/>
        </p:nvSpPr>
        <p:spPr>
          <a:xfrm>
            <a:off x="1839960" y="2541600"/>
            <a:ext cx="1533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ษภ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8" name=""/>
          <p:cNvSpPr/>
          <p:nvPr/>
        </p:nvSpPr>
        <p:spPr>
          <a:xfrm>
            <a:off x="1911600" y="4105440"/>
            <a:ext cx="1153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ิถุ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9" name=""/>
          <p:cNvSpPr/>
          <p:nvPr/>
        </p:nvSpPr>
        <p:spPr>
          <a:xfrm>
            <a:off x="1815840" y="5583240"/>
            <a:ext cx="1400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รกฎ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"/>
          <p:cNvSpPr/>
          <p:nvPr/>
        </p:nvSpPr>
        <p:spPr>
          <a:xfrm>
            <a:off x="4779000" y="981000"/>
            <a:ext cx="1091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ิงห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1" name=""/>
          <p:cNvSpPr/>
          <p:nvPr/>
        </p:nvSpPr>
        <p:spPr>
          <a:xfrm>
            <a:off x="4653720" y="2603520"/>
            <a:ext cx="1141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ันย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2" name=""/>
          <p:cNvSpPr/>
          <p:nvPr/>
        </p:nvSpPr>
        <p:spPr>
          <a:xfrm>
            <a:off x="4608360" y="4081320"/>
            <a:ext cx="113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ุลย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3" name=""/>
          <p:cNvSpPr/>
          <p:nvPr/>
        </p:nvSpPr>
        <p:spPr>
          <a:xfrm>
            <a:off x="4640400" y="5583240"/>
            <a:ext cx="1150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ิจิก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4" name=""/>
          <p:cNvSpPr/>
          <p:nvPr/>
        </p:nvSpPr>
        <p:spPr>
          <a:xfrm>
            <a:off x="7835040" y="922320"/>
            <a:ext cx="79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ธนู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5" name=""/>
          <p:cNvSpPr/>
          <p:nvPr/>
        </p:nvSpPr>
        <p:spPr>
          <a:xfrm>
            <a:off x="7566120" y="2562120"/>
            <a:ext cx="1377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ังก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"/>
          <p:cNvSpPr/>
          <p:nvPr/>
        </p:nvSpPr>
        <p:spPr>
          <a:xfrm>
            <a:off x="7617960" y="4021200"/>
            <a:ext cx="1149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ุมภ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"/>
          <p:cNvSpPr/>
          <p:nvPr/>
        </p:nvSpPr>
        <p:spPr>
          <a:xfrm>
            <a:off x="7725600" y="5541840"/>
            <a:ext cx="836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8" name=""/>
          <p:cNvSpPr/>
          <p:nvPr/>
        </p:nvSpPr>
        <p:spPr>
          <a:xfrm>
            <a:off x="2197080" y="15238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"/>
          <p:cNvSpPr/>
          <p:nvPr/>
        </p:nvSpPr>
        <p:spPr>
          <a:xfrm>
            <a:off x="2320200" y="3084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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"/>
          <p:cNvSpPr/>
          <p:nvPr/>
        </p:nvSpPr>
        <p:spPr>
          <a:xfrm>
            <a:off x="2242440" y="4686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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"/>
          <p:cNvSpPr/>
          <p:nvPr/>
        </p:nvSpPr>
        <p:spPr>
          <a:xfrm>
            <a:off x="2264400" y="61056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"/>
          <p:cNvSpPr/>
          <p:nvPr/>
        </p:nvSpPr>
        <p:spPr>
          <a:xfrm>
            <a:off x="5076720" y="15238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31050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4" name=""/>
          <p:cNvSpPr/>
          <p:nvPr/>
        </p:nvSpPr>
        <p:spPr>
          <a:xfrm>
            <a:off x="4894920" y="46245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5" name=""/>
          <p:cNvSpPr/>
          <p:nvPr/>
        </p:nvSpPr>
        <p:spPr>
          <a:xfrm>
            <a:off x="4948920" y="61038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"/>
          <p:cNvSpPr/>
          <p:nvPr/>
        </p:nvSpPr>
        <p:spPr>
          <a:xfrm>
            <a:off x="7972920" y="15638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7" name=""/>
          <p:cNvSpPr/>
          <p:nvPr/>
        </p:nvSpPr>
        <p:spPr>
          <a:xfrm>
            <a:off x="7982640" y="30844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8" name=""/>
          <p:cNvSpPr/>
          <p:nvPr/>
        </p:nvSpPr>
        <p:spPr>
          <a:xfrm>
            <a:off x="7935840" y="45640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"/>
          <p:cNvSpPr/>
          <p:nvPr/>
        </p:nvSpPr>
        <p:spPr>
          <a:xfrm>
            <a:off x="7864560" y="60228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901f3"/>
                </a:solidFill>
                <a:latin typeface="Angsana New"/>
                <a:cs typeface="Angsana New"/>
              </a:rPr>
              <a:t>ดาวพระเคราะห์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ในทัศนะวิชาดาราศาสตร์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: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บริวารของดวง อาทิตย์ ได้แก่ พุธ ศุกร์ โลก อังคาร พฤหัส เสาร์ มฤตยู เนปจูน พลูโ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ในทัศนะวิชาโหราศาสตร์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: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รวมถึงอาทิตย์ และจันท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โหราศาสตร์ยูเรเนียน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: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ดาวทิพย์อีก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8 </a:t>
            </a:r>
            <a:r>
              <a:rPr b="0" lang="th-TH" sz="3200" spc="-1" strike="noStrike">
                <a:solidFill>
                  <a:srgbClr val="114ffb"/>
                </a:solidFill>
                <a:latin typeface="Angsana New"/>
              </a:rPr>
              <a:t>ดว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92240" y="5867280"/>
            <a:ext cx="6716520" cy="79848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3" name=""/>
          <p:cNvSpPr/>
          <p:nvPr/>
        </p:nvSpPr>
        <p:spPr>
          <a:xfrm>
            <a:off x="2139840" y="692280"/>
            <a:ext cx="4635720" cy="4635360"/>
          </a:xfrm>
          <a:prstGeom prst="ellipse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4" name=""/>
          <p:cNvSpPr/>
          <p:nvPr/>
        </p:nvSpPr>
        <p:spPr>
          <a:xfrm>
            <a:off x="2139840" y="2597040"/>
            <a:ext cx="4635720" cy="1054080"/>
          </a:xfrm>
          <a:prstGeom prst="ellipse">
            <a:avLst/>
          </a:prstGeom>
          <a:noFill/>
          <a:ln w="12600">
            <a:solidFill>
              <a:srgbClr val="008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5" name=""/>
          <p:cNvSpPr/>
          <p:nvPr/>
        </p:nvSpPr>
        <p:spPr>
          <a:xfrm>
            <a:off x="4273560" y="2901960"/>
            <a:ext cx="368280" cy="368280"/>
          </a:xfrm>
          <a:prstGeom prst="ellipse">
            <a:avLst/>
          </a:prstGeom>
          <a:solidFill>
            <a:srgbClr val="712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6" name=""/>
          <p:cNvSpPr/>
          <p:nvPr/>
        </p:nvSpPr>
        <p:spPr>
          <a:xfrm>
            <a:off x="3656160" y="9216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เหน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7" name=""/>
          <p:cNvSpPr/>
          <p:nvPr/>
        </p:nvSpPr>
        <p:spPr>
          <a:xfrm>
            <a:off x="3910320" y="5340240"/>
            <a:ext cx="126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ใต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"/>
          <p:cNvSpPr/>
          <p:nvPr/>
        </p:nvSpPr>
        <p:spPr>
          <a:xfrm>
            <a:off x="4648680" y="283536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"/>
          <p:cNvSpPr/>
          <p:nvPr/>
        </p:nvSpPr>
        <p:spPr>
          <a:xfrm>
            <a:off x="1179360" y="5881680"/>
            <a:ext cx="654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"/>
          <p:cNvSpPr/>
          <p:nvPr/>
        </p:nvSpPr>
        <p:spPr>
          <a:xfrm rot="20160000">
            <a:off x="2139480" y="2520720"/>
            <a:ext cx="4635720" cy="10540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"/>
          <p:cNvSpPr/>
          <p:nvPr/>
        </p:nvSpPr>
        <p:spPr>
          <a:xfrm>
            <a:off x="6748200" y="2149560"/>
            <a:ext cx="143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ระวิม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7360" y="3916440"/>
            <a:ext cx="2919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50960" y="3946680"/>
            <a:ext cx="150840" cy="172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5120" y="1935000"/>
            <a:ext cx="288720" cy="198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"/>
          <p:cNvSpPr/>
          <p:nvPr/>
        </p:nvSpPr>
        <p:spPr>
          <a:xfrm>
            <a:off x="5460840" y="2133720"/>
            <a:ext cx="336600" cy="11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"/>
          <p:cNvSpPr/>
          <p:nvPr/>
        </p:nvSpPr>
        <p:spPr>
          <a:xfrm>
            <a:off x="4449600" y="557280"/>
            <a:ext cx="0" cy="3315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"/>
          <p:cNvSpPr/>
          <p:nvPr/>
        </p:nvSpPr>
        <p:spPr>
          <a:xfrm>
            <a:off x="4479840" y="5127480"/>
            <a:ext cx="0" cy="33192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"/>
          <p:cNvSpPr/>
          <p:nvPr/>
        </p:nvSpPr>
        <p:spPr>
          <a:xfrm rot="17820000">
            <a:off x="2080440" y="2187000"/>
            <a:ext cx="4635360" cy="1608120"/>
          </a:xfrm>
          <a:prstGeom prst="ellipse">
            <a:avLst/>
          </a:prstGeom>
          <a:noFill/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"/>
          <p:cNvSpPr/>
          <p:nvPr/>
        </p:nvSpPr>
        <p:spPr>
          <a:xfrm>
            <a:off x="5246640" y="3333600"/>
            <a:ext cx="1446120" cy="1041480"/>
          </a:xfrm>
          <a:prstGeom prst="line">
            <a:avLst/>
          </a:prstGeom>
          <a:ln w="12600">
            <a:solidFill>
              <a:srgbClr val="71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1627200" y="1619280"/>
            <a:ext cx="1836720" cy="1208160"/>
          </a:xfrm>
          <a:prstGeom prst="line">
            <a:avLst/>
          </a:prstGeom>
          <a:ln w="12600">
            <a:solidFill>
              <a:srgbClr val="71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788000" y="3780000"/>
            <a:ext cx="93600" cy="352440"/>
          </a:xfrm>
          <a:prstGeom prst="line">
            <a:avLst/>
          </a:prstGeom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5160" y="3860640"/>
            <a:ext cx="297000" cy="149400"/>
          </a:xfrm>
          <a:prstGeom prst="line">
            <a:avLst/>
          </a:prstGeom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909960" y="1942920"/>
            <a:ext cx="311040" cy="215640"/>
          </a:xfrm>
          <a:prstGeom prst="line">
            <a:avLst/>
          </a:prstGeom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949560" y="1760040"/>
            <a:ext cx="68400" cy="357480"/>
          </a:xfrm>
          <a:prstGeom prst="line">
            <a:avLst/>
          </a:prstGeom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5" name=""/>
          <p:cNvSpPr/>
          <p:nvPr/>
        </p:nvSpPr>
        <p:spPr>
          <a:xfrm>
            <a:off x="6179760" y="4097160"/>
            <a:ext cx="1684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ราหู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000"/>
                </a:solidFill>
                <a:latin typeface="Times New Roman"/>
                <a:ea typeface="AngsanaUPC"/>
              </a:rPr>
              <a:t>(</a:t>
            </a: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จุดตัดขึ้น</a:t>
            </a:r>
            <a:r>
              <a:rPr b="0" lang="en-US" sz="2800" spc="-1" strike="noStrike">
                <a:solidFill>
                  <a:srgbClr val="712000"/>
                </a:solidFill>
                <a:latin typeface="Times New Roman"/>
                <a:ea typeface="Angsana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"/>
          <p:cNvSpPr/>
          <p:nvPr/>
        </p:nvSpPr>
        <p:spPr>
          <a:xfrm>
            <a:off x="517320" y="1200240"/>
            <a:ext cx="1665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เกตุ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000"/>
                </a:solidFill>
                <a:latin typeface="Times New Roman"/>
                <a:ea typeface="AngsanaUPC"/>
              </a:rPr>
              <a:t>(</a:t>
            </a: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จุดตัดลง</a:t>
            </a:r>
            <a:r>
              <a:rPr b="0" lang="en-US" sz="2800" spc="-1" strike="noStrike">
                <a:solidFill>
                  <a:srgbClr val="712000"/>
                </a:solidFill>
                <a:latin typeface="Times New Roman"/>
                <a:ea typeface="Angsana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"/>
          <p:cNvSpPr/>
          <p:nvPr/>
        </p:nvSpPr>
        <p:spPr>
          <a:xfrm>
            <a:off x="4243320" y="36720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8" name=""/>
          <p:cNvSpPr/>
          <p:nvPr/>
        </p:nvSpPr>
        <p:spPr>
          <a:xfrm>
            <a:off x="3861360" y="21319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"/>
          <p:cNvSpPr/>
          <p:nvPr/>
        </p:nvSpPr>
        <p:spPr>
          <a:xfrm>
            <a:off x="6622200" y="17272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"/>
          <p:cNvSpPr/>
          <p:nvPr/>
        </p:nvSpPr>
        <p:spPr>
          <a:xfrm>
            <a:off x="1882080" y="38149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570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หู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กตุ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องจันทร์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Moon Node)</a:t>
            </a:r>
            <a:endParaRPr b="0" lang="en-US" sz="48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8720" y="3822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stroBuilder"/>
                <a:ea typeface="Times New Roman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3823920" y="445788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c5e"/>
                </a:solidFill>
                <a:latin typeface="AstroBuilder"/>
                <a:ea typeface="Times New Roman"/>
              </a:rPr>
              <a:t>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5872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80" y="5888160"/>
            <a:ext cx="9118440" cy="9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414360" y="6058080"/>
            <a:ext cx="836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40" y="5920920"/>
            <a:ext cx="9113760" cy="9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“</a:t>
            </a: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ฟ้า” คือความว่างเปล่าขนาดมหึมา ประกอบด้วย “วัตถุท้องฟ้า” นับไม่ถ้วน</a:t>
            </a:r>
            <a:endParaRPr b="0" lang="en-US" sz="32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795760" y="5927760"/>
            <a:ext cx="3755880" cy="717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"/>
          <p:cNvSpPr/>
          <p:nvPr/>
        </p:nvSpPr>
        <p:spPr>
          <a:xfrm rot="8580000">
            <a:off x="3701880" y="1940760"/>
            <a:ext cx="1726560" cy="185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71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6" name=""/>
          <p:cNvSpPr/>
          <p:nvPr/>
        </p:nvSpPr>
        <p:spPr>
          <a:xfrm rot="17280000">
            <a:off x="2152440" y="560160"/>
            <a:ext cx="4932360" cy="4932360"/>
          </a:xfrm>
          <a:prstGeom prst="ellipse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7" name=""/>
          <p:cNvSpPr/>
          <p:nvPr/>
        </p:nvSpPr>
        <p:spPr>
          <a:xfrm>
            <a:off x="3860640" y="2762280"/>
            <a:ext cx="257400" cy="7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908520" y="2608200"/>
            <a:ext cx="93600" cy="33984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9" name=""/>
          <p:cNvSpPr/>
          <p:nvPr/>
        </p:nvSpPr>
        <p:spPr>
          <a:xfrm>
            <a:off x="2165400" y="2198520"/>
            <a:ext cx="5172120" cy="1673280"/>
          </a:xfrm>
          <a:prstGeom prst="line">
            <a:avLst/>
          </a:prstGeom>
          <a:ln w="12600">
            <a:solidFill>
              <a:srgbClr val="618ff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798720" y="552600"/>
            <a:ext cx="1616400" cy="5024160"/>
          </a:xfrm>
          <a:prstGeom prst="line">
            <a:avLst/>
          </a:prstGeom>
          <a:ln w="12600">
            <a:solidFill>
              <a:srgbClr val="618ff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1" name=""/>
          <p:cNvSpPr/>
          <p:nvPr/>
        </p:nvSpPr>
        <p:spPr>
          <a:xfrm>
            <a:off x="1822320" y="3063960"/>
            <a:ext cx="635040" cy="0"/>
          </a:xfrm>
          <a:prstGeom prst="line">
            <a:avLst/>
          </a:prstGeom>
          <a:ln w="1260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2" name=""/>
          <p:cNvSpPr/>
          <p:nvPr/>
        </p:nvSpPr>
        <p:spPr>
          <a:xfrm>
            <a:off x="6848640" y="3043080"/>
            <a:ext cx="514080" cy="0"/>
          </a:xfrm>
          <a:prstGeom prst="line">
            <a:avLst/>
          </a:prstGeom>
          <a:ln w="1260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3" name=""/>
          <p:cNvSpPr/>
          <p:nvPr/>
        </p:nvSpPr>
        <p:spPr>
          <a:xfrm>
            <a:off x="4632480" y="334800"/>
            <a:ext cx="0" cy="452520"/>
          </a:xfrm>
          <a:prstGeom prst="line">
            <a:avLst/>
          </a:prstGeom>
          <a:ln w="1260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4" name=""/>
          <p:cNvSpPr/>
          <p:nvPr/>
        </p:nvSpPr>
        <p:spPr>
          <a:xfrm>
            <a:off x="4632480" y="5280120"/>
            <a:ext cx="0" cy="493560"/>
          </a:xfrm>
          <a:prstGeom prst="line">
            <a:avLst/>
          </a:prstGeom>
          <a:ln w="1260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5" name=""/>
          <p:cNvSpPr/>
          <p:nvPr/>
        </p:nvSpPr>
        <p:spPr>
          <a:xfrm rot="17280000">
            <a:off x="4103640" y="2498400"/>
            <a:ext cx="1001520" cy="1001880"/>
          </a:xfrm>
          <a:prstGeom prst="ellipse">
            <a:avLst/>
          </a:prstGeom>
          <a:noFill/>
          <a:ln w="1260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1951200" y="2104560"/>
            <a:ext cx="560160" cy="2365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795480" y="5137200"/>
            <a:ext cx="174600" cy="49356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"/>
          <p:cNvSpPr/>
          <p:nvPr/>
        </p:nvSpPr>
        <p:spPr>
          <a:xfrm rot="17280000">
            <a:off x="3570120" y="2552400"/>
            <a:ext cx="271440" cy="271800"/>
          </a:xfrm>
          <a:prstGeom prst="ellipse">
            <a:avLst/>
          </a:prstGeom>
          <a:noFill/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241720" y="1314360"/>
            <a:ext cx="0" cy="865440"/>
          </a:xfrm>
          <a:prstGeom prst="line">
            <a:avLst/>
          </a:prstGeom>
          <a:ln w="1260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03040" y="5415120"/>
            <a:ext cx="884520" cy="0"/>
          </a:xfrm>
          <a:prstGeom prst="line">
            <a:avLst/>
          </a:prstGeom>
          <a:ln w="1260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"/>
          <p:cNvSpPr/>
          <p:nvPr/>
        </p:nvSpPr>
        <p:spPr>
          <a:xfrm>
            <a:off x="1524600" y="855720"/>
            <a:ext cx="1484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AngsanaUPC"/>
              </a:rPr>
              <a:t>Meridia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"/>
          <p:cNvSpPr/>
          <p:nvPr/>
        </p:nvSpPr>
        <p:spPr>
          <a:xfrm>
            <a:off x="1632960" y="4848120"/>
            <a:ext cx="1681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AngsanaUPC"/>
              </a:rPr>
              <a:t>Ascenda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AngsanaUPC"/>
              </a:rPr>
              <a:t>(</a:t>
            </a:r>
            <a:r>
              <a:rPr b="0" lang="hi-IN" sz="2800" spc="-1" strike="noStrike">
                <a:solidFill>
                  <a:srgbClr val="00279f"/>
                </a:solidFill>
                <a:latin typeface="Times New Roman"/>
                <a:cs typeface="AngsanaUPC"/>
              </a:rPr>
              <a:t>ลัคนา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Angsana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"/>
          <p:cNvSpPr/>
          <p:nvPr/>
        </p:nvSpPr>
        <p:spPr>
          <a:xfrm rot="17340000">
            <a:off x="3026880" y="2819160"/>
            <a:ext cx="130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e00"/>
                </a:solidFill>
                <a:latin typeface="Times New Roman"/>
                <a:cs typeface="AngsanaUPC"/>
              </a:rPr>
              <a:t>เจ้าชะต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"/>
          <p:cNvSpPr/>
          <p:nvPr/>
        </p:nvSpPr>
        <p:spPr>
          <a:xfrm>
            <a:off x="1355040" y="28224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5" name=""/>
          <p:cNvSpPr/>
          <p:nvPr/>
        </p:nvSpPr>
        <p:spPr>
          <a:xfrm>
            <a:off x="7374600" y="28209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6" name=""/>
          <p:cNvSpPr/>
          <p:nvPr/>
        </p:nvSpPr>
        <p:spPr>
          <a:xfrm>
            <a:off x="2898720" y="5859360"/>
            <a:ext cx="36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7" name=""/>
          <p:cNvSpPr/>
          <p:nvPr/>
        </p:nvSpPr>
        <p:spPr>
          <a:xfrm>
            <a:off x="4258080" y="276084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44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7720" y="567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ุดลัคนาและเมอริเดียน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68560" y="2746440"/>
            <a:ext cx="271800" cy="6804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197240" y="1892160"/>
            <a:ext cx="692280" cy="69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"/>
          <p:cNvSpPr/>
          <p:nvPr/>
        </p:nvSpPr>
        <p:spPr>
          <a:xfrm>
            <a:off x="2795760" y="5927760"/>
            <a:ext cx="3755880" cy="717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"/>
          <p:cNvSpPr/>
          <p:nvPr/>
        </p:nvSpPr>
        <p:spPr>
          <a:xfrm>
            <a:off x="2898720" y="5859360"/>
            <a:ext cx="36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"/>
          <p:cNvSpPr/>
          <p:nvPr/>
        </p:nvSpPr>
        <p:spPr>
          <a:xfrm>
            <a:off x="747720" y="5675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ุดลัคนาขณะเกิด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"/>
          <p:cNvSpPr/>
          <p:nvPr/>
        </p:nvSpPr>
        <p:spPr>
          <a:xfrm>
            <a:off x="1565280" y="4294080"/>
            <a:ext cx="6211800" cy="0"/>
          </a:xfrm>
          <a:prstGeom prst="line">
            <a:avLst/>
          </a:prstGeom>
          <a:ln w="1260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084560" y="774360"/>
            <a:ext cx="1800" cy="4887720"/>
          </a:xfrm>
          <a:prstGeom prst="line">
            <a:avLst/>
          </a:prstGeom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4984560" y="745920"/>
            <a:ext cx="14040" cy="4903560"/>
          </a:xfrm>
          <a:prstGeom prst="line">
            <a:avLst/>
          </a:prstGeom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7" name=""/>
          <p:cNvSpPr/>
          <p:nvPr/>
        </p:nvSpPr>
        <p:spPr>
          <a:xfrm>
            <a:off x="4277520" y="1047600"/>
            <a:ext cx="54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"/>
          <p:cNvSpPr/>
          <p:nvPr/>
        </p:nvSpPr>
        <p:spPr>
          <a:xfrm>
            <a:off x="4247280" y="2776680"/>
            <a:ext cx="54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9" name=""/>
          <p:cNvSpPr/>
          <p:nvPr/>
        </p:nvSpPr>
        <p:spPr>
          <a:xfrm>
            <a:off x="4312440" y="4483080"/>
            <a:ext cx="54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>
            <a:off x="4091040" y="5178600"/>
            <a:ext cx="893880" cy="288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1" name=""/>
          <p:cNvSpPr/>
          <p:nvPr/>
        </p:nvSpPr>
        <p:spPr>
          <a:xfrm>
            <a:off x="4081320" y="3740040"/>
            <a:ext cx="893880" cy="32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"/>
          <p:cNvSpPr/>
          <p:nvPr/>
        </p:nvSpPr>
        <p:spPr>
          <a:xfrm>
            <a:off x="4081320" y="2158920"/>
            <a:ext cx="893880" cy="32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/>
          <p:nvPr/>
        </p:nvSpPr>
        <p:spPr>
          <a:xfrm>
            <a:off x="4100400" y="882720"/>
            <a:ext cx="893880" cy="32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"/>
          <p:cNvSpPr/>
          <p:nvPr/>
        </p:nvSpPr>
        <p:spPr>
          <a:xfrm>
            <a:off x="4505400" y="2219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549680" y="731520"/>
            <a:ext cx="7920" cy="4917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/>
          <p:nvPr/>
        </p:nvSpPr>
        <p:spPr>
          <a:xfrm>
            <a:off x="2248920" y="4338720"/>
            <a:ext cx="167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ื้นระดับจริ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7" name=""/>
          <p:cNvSpPr/>
          <p:nvPr/>
        </p:nvSpPr>
        <p:spPr>
          <a:xfrm>
            <a:off x="5168160" y="4324320"/>
            <a:ext cx="18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 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บฟ้าจริ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"/>
          <p:cNvSpPr/>
          <p:nvPr/>
        </p:nvSpPr>
        <p:spPr>
          <a:xfrm>
            <a:off x="5205960" y="3281400"/>
            <a:ext cx="120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ุดลัคนา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9" name=""/>
          <p:cNvSpPr/>
          <p:nvPr/>
        </p:nvSpPr>
        <p:spPr>
          <a:xfrm>
            <a:off x="5280120" y="2023920"/>
            <a:ext cx="104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ต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"/>
          <p:cNvSpPr/>
          <p:nvPr/>
        </p:nvSpPr>
        <p:spPr>
          <a:xfrm>
            <a:off x="5219640" y="909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วิมรร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4551120" y="3592440"/>
            <a:ext cx="855720" cy="68760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4551120" y="965160"/>
            <a:ext cx="812520" cy="1843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5896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874000" y="6480"/>
            <a:ext cx="250920" cy="5864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6480" y="5880240"/>
            <a:ext cx="9118440" cy="95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517680" y="5999040"/>
            <a:ext cx="815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5900760"/>
            <a:ext cx="91314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าราศาสตร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ngsanaUPC"/>
              </a:rPr>
              <a:t>/</a:t>
            </a: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หราศาสตร์ได้อนุมานให้ท้องฟ้ามีสัณฐานกลม</a:t>
            </a:r>
            <a:endParaRPr b="0" lang="en-US" sz="40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65320" y="5927760"/>
            <a:ext cx="4791240" cy="69696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2139840" y="692280"/>
            <a:ext cx="4635720" cy="4635360"/>
          </a:xfrm>
          <a:prstGeom prst="ellipse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139840" y="2597040"/>
            <a:ext cx="4635720" cy="1054080"/>
          </a:xfrm>
          <a:prstGeom prst="ellipse">
            <a:avLst/>
          </a:prstGeom>
          <a:noFill/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4273560" y="2901960"/>
            <a:ext cx="368280" cy="368280"/>
          </a:xfrm>
          <a:prstGeom prst="ellipse">
            <a:avLst/>
          </a:prstGeom>
          <a:solidFill>
            <a:srgbClr val="712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3656160" y="1252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เหน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3890160" y="5334120"/>
            <a:ext cx="126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ใต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4988160" y="284940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3651840" y="1380960"/>
            <a:ext cx="1716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ซีกฟ้าเหน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3789360" y="4613400"/>
            <a:ext cx="132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ซีกฟ้าใต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3607200" y="3819600"/>
            <a:ext cx="18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e00"/>
                </a:solidFill>
                <a:latin typeface="Times New Roman"/>
                <a:cs typeface="AngsanaUPC"/>
              </a:rPr>
              <a:t>ศูนย์สูตรฟ้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2158920" y="5881680"/>
            <a:ext cx="458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4449600" y="557280"/>
            <a:ext cx="0" cy="3315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4460760" y="5168880"/>
            <a:ext cx="0" cy="33192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4800" y="570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ภาพจำลองทรงกลมท้องฟ้า</a:t>
            </a:r>
            <a:endParaRPr b="0" lang="en-US" sz="48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114ffb"/>
                </a:solidFill>
                <a:latin typeface="Angsana New"/>
                <a:cs typeface="Angsana New"/>
              </a:rPr>
              <a:t>วัตถุท้องฟ้าซึ่งมีนับไม่ถ้วน ได้แก่</a:t>
            </a:r>
            <a:endParaRPr b="0" lang="en-US" sz="44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2080" y="2001600"/>
            <a:ext cx="6683400" cy="38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114ffb"/>
                </a:solidFill>
                <a:latin typeface="Angsana New"/>
              </a:rPr>
              <a:t>ดวงอาทิตย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114ffb"/>
                </a:solidFill>
                <a:latin typeface="Angsana New"/>
              </a:rPr>
              <a:t>ดาวพระเคราะห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114ffb"/>
                </a:solidFill>
                <a:latin typeface="Angsana New"/>
              </a:rPr>
              <a:t>ดาวฤกษ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8901f3"/>
              </a:buClr>
              <a:buSzPct val="75000"/>
              <a:buFont typeface="Monotype Sort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114ffb"/>
                </a:solidFill>
                <a:latin typeface="Angsana New"/>
              </a:rPr>
              <a:t>อื่น ๆ ซึ่งได้แก่ ดาวพระเคราะห์น้อย       </a:t>
            </a:r>
            <a:br>
              <a:rPr sz="3200"/>
            </a:br>
            <a:r>
              <a:rPr b="0" i="1" lang="hi-IN" sz="3200" spc="-1" strike="noStrike">
                <a:solidFill>
                  <a:srgbClr val="114ffb"/>
                </a:solidFill>
                <a:latin typeface="Angsana New"/>
              </a:rPr>
              <a:t>อุกกาบาต ดาวหาง  ฯล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06720" y="5867280"/>
            <a:ext cx="4667040" cy="79848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2139840" y="692280"/>
            <a:ext cx="4635720" cy="4635360"/>
          </a:xfrm>
          <a:prstGeom prst="ellipse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2139840" y="2597040"/>
            <a:ext cx="4635720" cy="1054080"/>
          </a:xfrm>
          <a:prstGeom prst="ellipse">
            <a:avLst/>
          </a:prstGeom>
          <a:noFill/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4273560" y="2901960"/>
            <a:ext cx="368280" cy="368280"/>
          </a:xfrm>
          <a:prstGeom prst="ellipse">
            <a:avLst/>
          </a:prstGeom>
          <a:solidFill>
            <a:srgbClr val="712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3656160" y="85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เหน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3910680" y="5334120"/>
            <a:ext cx="126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ใต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846680" y="282888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2162160" y="5881680"/>
            <a:ext cx="457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2139480" y="2520720"/>
            <a:ext cx="4635720" cy="10540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359840" y="2143080"/>
            <a:ext cx="143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ระวิม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7144560" y="1685880"/>
            <a:ext cx="190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ครีษมาย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046160" y="3957480"/>
            <a:ext cx="1346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เหมาย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4033800" y="1838160"/>
            <a:ext cx="206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ศารทวิษุวั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5083200" y="3819600"/>
            <a:ext cx="2131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อุตตรวิษุวั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7360" y="3916440"/>
            <a:ext cx="2919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50960" y="3946680"/>
            <a:ext cx="150840" cy="172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15120" y="1935000"/>
            <a:ext cx="288720" cy="198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5460840" y="2133720"/>
            <a:ext cx="336600" cy="11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4449600" y="557280"/>
            <a:ext cx="0" cy="3315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479840" y="5127480"/>
            <a:ext cx="0" cy="33192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4680" y="570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วิมรรคกับจุดวิษุวัตทั้ง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</a:t>
            </a:r>
            <a:endParaRPr b="0" lang="en-US" sz="48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8720" y="3822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stroBuilder"/>
                <a:ea typeface="Times New Roman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080" y="60912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901f3"/>
                </a:solidFill>
                <a:latin typeface="Angsana New"/>
                <a:cs typeface="Angsana New"/>
              </a:rPr>
              <a:t>เหตุที่กำหนดให้วิษุวัตเป็นจุดเริ่มต้นจักรราศี</a:t>
            </a:r>
            <a:endParaRPr b="0" lang="en-US" sz="36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0000" y="204300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ts val="4499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114ffb"/>
                </a:solidFill>
                <a:latin typeface="Angsana New"/>
              </a:rPr>
              <a:t>เป็นขณะที่ดวงอาทิตย์โคจรผ่านเส้นศูนย์สูตร  </a:t>
            </a:r>
            <a:r>
              <a:rPr b="0" lang="en-US" sz="3200" spc="-1" strike="noStrike">
                <a:solidFill>
                  <a:srgbClr val="114ffb"/>
                </a:solidFill>
                <a:latin typeface="Angsana New"/>
              </a:rPr>
              <a:t>(</a:t>
            </a:r>
            <a:r>
              <a:rPr b="0" lang="hi-IN" sz="3200" spc="-1" strike="noStrike">
                <a:solidFill>
                  <a:srgbClr val="114ffb"/>
                </a:solidFill>
                <a:latin typeface="Angsana New"/>
              </a:rPr>
              <a:t>มีสภาพเหมือนกำลัง “อุทัย” ในทุกเวลาเช้า ของแต่ละวัน</a:t>
            </a:r>
            <a:r>
              <a:rPr b="0" lang="en-US" sz="3200" spc="-1" strike="noStrike">
                <a:solidFill>
                  <a:srgbClr val="114ffb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499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114ffb"/>
                </a:solidFill>
                <a:latin typeface="Angsana New"/>
              </a:rPr>
              <a:t>เป็นขณะที่ใบไม้กำลังผลิใบใหม่ หรือ เริ่มฤดู ใบไม้ผลิ  </a:t>
            </a:r>
            <a:r>
              <a:rPr b="0" lang="en-US" sz="3200" spc="-1" strike="noStrike">
                <a:solidFill>
                  <a:srgbClr val="114ffb"/>
                </a:solidFill>
                <a:latin typeface="Angsana New"/>
              </a:rPr>
              <a:t>(</a:t>
            </a:r>
            <a:r>
              <a:rPr b="0" lang="hi-IN" sz="3200" spc="-1" strike="noStrike">
                <a:solidFill>
                  <a:srgbClr val="114ffb"/>
                </a:solidFill>
                <a:latin typeface="Angsana New"/>
              </a:rPr>
              <a:t>มีสภาพเหมือนคลอดจากครรภ์มารดาของชีวิตที่มีกายทั้งหลาย</a:t>
            </a:r>
            <a:r>
              <a:rPr b="0" lang="en-US" sz="3200" spc="-1" strike="noStrike">
                <a:solidFill>
                  <a:srgbClr val="114ffb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9840" y="692280"/>
            <a:ext cx="4635720" cy="4635360"/>
          </a:xfrm>
          <a:prstGeom prst="ellipse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139840" y="2597040"/>
            <a:ext cx="4635720" cy="1054080"/>
          </a:xfrm>
          <a:prstGeom prst="ellipse">
            <a:avLst/>
          </a:prstGeom>
          <a:noFill/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282888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17760" y="5583240"/>
            <a:ext cx="5945040" cy="858960"/>
            <a:chOff x="1517760" y="5583240"/>
            <a:chExt cx="5945040" cy="858960"/>
          </a:xfrm>
        </p:grpSpPr>
        <p:sp>
          <p:nvSpPr>
            <p:cNvPr id="132" name=""/>
            <p:cNvSpPr/>
            <p:nvPr/>
          </p:nvSpPr>
          <p:spPr>
            <a:xfrm>
              <a:off x="1517760" y="5583240"/>
              <a:ext cx="5945040" cy="819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114ffb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1880" y="5618160"/>
              <a:ext cx="575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20160000">
            <a:off x="2139480" y="2520720"/>
            <a:ext cx="4635720" cy="10540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6747120" y="2143080"/>
            <a:ext cx="143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ระวิม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 rot="9540000">
            <a:off x="4295520" y="37512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 rot="9420000">
            <a:off x="3803040" y="20728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 rot="20280000">
            <a:off x="6572520" y="16923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 rot="9000000">
            <a:off x="1848240" y="39024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2597040"/>
            <a:ext cx="291960" cy="1054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8440" y="2126880"/>
            <a:ext cx="4178520" cy="1841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4983480" y="3591000"/>
            <a:ext cx="18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b3b900"/>
                </a:solidFill>
                <a:latin typeface="Times New Roman"/>
                <a:cs typeface="AngsanaUPC"/>
              </a:rPr>
              <a:t>ศูนย์สูตรฟ้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073400" y="2955960"/>
            <a:ext cx="368280" cy="368280"/>
          </a:xfrm>
          <a:prstGeom prst="ellipse">
            <a:avLst/>
          </a:prstGeom>
          <a:solidFill>
            <a:srgbClr val="712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5753160" y="2968560"/>
            <a:ext cx="190440" cy="55584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5558760" y="2854440"/>
            <a:ext cx="351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มุม </a:t>
            </a:r>
            <a:r>
              <a:rPr b="0" lang="en-US" sz="2800" spc="-1" strike="noStrike">
                <a:solidFill>
                  <a:srgbClr val="8901f3"/>
                </a:solidFill>
                <a:latin typeface="Times New Roman"/>
                <a:ea typeface="AngsanaUPC"/>
              </a:rPr>
              <a:t>E </a:t>
            </a: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ประมาณ </a:t>
            </a:r>
            <a:r>
              <a:rPr b="0" lang="en-US" sz="2800" spc="-1" strike="noStrike">
                <a:solidFill>
                  <a:srgbClr val="8901f3"/>
                </a:solidFill>
                <a:latin typeface="Times New Roman"/>
                <a:ea typeface="AngsanaUPC"/>
              </a:rPr>
              <a:t>23 </a:t>
            </a:r>
            <a:r>
              <a:rPr b="0" lang="hi-IN" sz="2800" spc="-1" strike="noStrike">
                <a:solidFill>
                  <a:srgbClr val="8901f3"/>
                </a:solidFill>
                <a:latin typeface="Times New Roman"/>
                <a:cs typeface="AngsanaUPC"/>
              </a:rPr>
              <a:t>องศ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400" y="545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ลักษณะการเอียงของเส้นระวิมรรค</a:t>
            </a:r>
            <a:endParaRPr b="0" lang="en-US" sz="4800" spc="-1" strike="noStrike">
              <a:solidFill>
                <a:srgbClr val="008a84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8720" y="3822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stroBuilder"/>
                <a:ea typeface="Times New Roman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 spd="slow" advTm="30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ffc1"/>
            </a:gs>
            <a:gs pos="50000">
              <a:srgbClr val="fefefe"/>
            </a:gs>
            <a:gs pos="100000">
              <a:srgbClr val="80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92360" y="5867280"/>
            <a:ext cx="3656160" cy="777960"/>
          </a:xfrm>
          <a:prstGeom prst="rect">
            <a:avLst/>
          </a:prstGeom>
          <a:solidFill>
            <a:srgbClr val="618ffd"/>
          </a:solidFill>
          <a:ln w="12600">
            <a:solidFill>
              <a:srgbClr val="114ffb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692280"/>
            <a:ext cx="4635720" cy="4635360"/>
          </a:xfrm>
          <a:prstGeom prst="ellipse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2139840" y="2475000"/>
            <a:ext cx="4635720" cy="1211040"/>
          </a:xfrm>
          <a:prstGeom prst="ellipse">
            <a:avLst/>
          </a:prstGeom>
          <a:noFill/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4273560" y="2901960"/>
            <a:ext cx="368280" cy="368280"/>
          </a:xfrm>
          <a:prstGeom prst="ellipse">
            <a:avLst/>
          </a:prstGeom>
          <a:solidFill>
            <a:srgbClr val="712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3656160" y="85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เหน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3910680" y="5334120"/>
            <a:ext cx="126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114ffb"/>
                </a:solidFill>
                <a:latin typeface="Times New Roman"/>
                <a:cs typeface="AngsanaUPC"/>
              </a:rPr>
              <a:t>ขั้วฟ้าใต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4846680" y="2828880"/>
            <a:ext cx="70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2000"/>
                </a:solidFill>
                <a:latin typeface="Times New Roman"/>
                <a:cs typeface="AngsanaUPC"/>
              </a:rPr>
              <a:t>โล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836800" y="5881680"/>
            <a:ext cx="322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 rot="20160000">
            <a:off x="2160360" y="2157480"/>
            <a:ext cx="4633920" cy="17668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7258320" y="1778040"/>
            <a:ext cx="143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c0128"/>
                </a:solidFill>
                <a:latin typeface="Times New Roman"/>
                <a:cs typeface="AngsanaUPC"/>
              </a:rPr>
              <a:t>ระวิม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648040" y="3246480"/>
            <a:ext cx="291960" cy="203040"/>
            <a:chOff x="5648040" y="3246480"/>
            <a:chExt cx="291960" cy="203040"/>
          </a:xfrm>
        </p:grpSpPr>
        <p:sp>
          <p:nvSpPr>
            <p:cNvPr id="159" name=""/>
            <p:cNvSpPr/>
            <p:nvPr/>
          </p:nvSpPr>
          <p:spPr>
            <a:xfrm flipH="1">
              <a:off x="5648040" y="3246480"/>
              <a:ext cx="2919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741640" y="3276720"/>
              <a:ext cx="150840" cy="172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67040" y="2693520"/>
            <a:ext cx="365040" cy="297000"/>
            <a:chOff x="2867040" y="2693520"/>
            <a:chExt cx="365040" cy="297000"/>
          </a:xfrm>
        </p:grpSpPr>
        <p:sp>
          <p:nvSpPr>
            <p:cNvPr id="162" name=""/>
            <p:cNvSpPr/>
            <p:nvPr/>
          </p:nvSpPr>
          <p:spPr>
            <a:xfrm flipV="1">
              <a:off x="2867040" y="2693520"/>
              <a:ext cx="198360" cy="2970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911320" y="2852280"/>
              <a:ext cx="320760" cy="119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20160000">
            <a:off x="2334960" y="2449080"/>
            <a:ext cx="4524120" cy="17686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 rot="20160000">
            <a:off x="2060640" y="1815840"/>
            <a:ext cx="4546440" cy="176508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5024520" y="3375000"/>
            <a:ext cx="372960" cy="534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332160" y="2268360"/>
            <a:ext cx="372960" cy="5353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3657600"/>
            <a:ext cx="371520" cy="777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6242040" y="1592280"/>
            <a:ext cx="450720" cy="7761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4122720" y="3710160"/>
            <a:ext cx="401760" cy="604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139920" y="3943440"/>
            <a:ext cx="401760" cy="604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2970360"/>
            <a:ext cx="401760" cy="604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6232680" y="2494080"/>
            <a:ext cx="339480" cy="5238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5176800" y="1560600"/>
            <a:ext cx="372960" cy="534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4237200" y="1833480"/>
            <a:ext cx="372960" cy="534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2768760" y="2654280"/>
            <a:ext cx="372960" cy="5349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2373480" y="3089160"/>
            <a:ext cx="326880" cy="4939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4470480" y="577800"/>
            <a:ext cx="0" cy="2304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4481640" y="5208480"/>
            <a:ext cx="0" cy="2304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 rot="19680000">
            <a:off x="5290920" y="32223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 rot="18900000">
            <a:off x="5939280" y="27036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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 rot="19140000">
            <a:off x="6315840" y="22269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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 rot="20220000">
            <a:off x="5690160" y="15235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 rot="20220000">
            <a:off x="4650840" y="16632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 rot="19920000">
            <a:off x="3676320" y="202896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 rot="19740000">
            <a:off x="3008880" y="243252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 rot="19080000">
            <a:off x="2472480" y="28666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 rot="17820000">
            <a:off x="2174400" y="336528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 rot="19980000">
            <a:off x="2627640" y="39798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 rot="20400000">
            <a:off x="3598920" y="388584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 rot="19860000">
            <a:off x="4545000" y="3645000"/>
            <a:ext cx="500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Wingdings"/>
                <a:ea typeface="Wing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800" y="570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ักรราศีบนท้องฟ้า</a:t>
            </a:r>
            <a:endParaRPr b="0" lang="en-US" sz="4800" spc="-1" strike="noStrike">
              <a:solidFill>
                <a:srgbClr val="008a84"/>
              </a:solidFill>
              <a:latin typeface="Arial"/>
            </a:endParaRPr>
          </a:p>
        </p:txBody>
      </p:sp>
    </p:spTree>
  </p:cSld>
  <p:transition spd="slow" advTm="30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22:08:22Z</dcterms:created>
  <dc:creator>โรจน์ จินตมาศ</dc:creator>
  <dc:description>เรียบเรียงจากเอกสารประกอบการสอนของอาจารย์พลตรีประยูร พลอารีย์</dc:description>
  <dc:language>en-US</dc:language>
  <cp:lastModifiedBy>Rojn Chintamas</cp:lastModifiedBy>
  <dcterms:modified xsi:type="dcterms:W3CDTF">2003-08-23T03:53:18Z</dcterms:modified>
  <cp:revision>8</cp:revision>
  <dc:subject/>
  <dc:title>ยูเรเนียนเบื้องต้น</dc:title>
</cp:coreProperties>
</file>